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F0F-74BD-4FC7-ACDD-B64CCD7F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EEC-C012-46DF-98B7-FF4AF2BD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D6D-4746-43FD-83A5-4CB9634C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9DC-D244-4D8F-8044-2666A84C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117-28EF-4241-B89A-A3A8282B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4E0-62CC-4F07-925D-E50D5439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F14-D0DF-4419-A98C-375D5DF3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98D-ADF8-4A46-A38A-02F905A6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47F-6E1F-483E-912B-E9D2E431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B05-C52C-4974-AD43-DCFD066F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1EDA-404B-4960-9EDA-8A8B4A81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C81-CA96-487A-A28F-EF2F1B17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739EA-E791-4625-9F89-10C1EC9FA8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 Buff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052640"/>
            <a:ext cx="1512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50920" y="907920"/>
            <a:ext cx="1363680" cy="2013120"/>
            <a:chOff x="250920" y="907920"/>
            <a:chExt cx="1363680" cy="2013120"/>
          </a:xfrm>
        </p:grpSpPr>
        <p:sp>
          <p:nvSpPr>
            <p:cNvPr id="51" name=""/>
            <p:cNvSpPr/>
            <p:nvPr/>
          </p:nvSpPr>
          <p:spPr>
            <a:xfrm>
              <a:off x="250920" y="90792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H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119700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0920" y="148428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0920" y="177336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0920" y="206064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234936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0920" y="263700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 flipV="1">
            <a:off x="1619280" y="1047240"/>
            <a:ext cx="151272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 Buffer (not f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27320" y="1047600"/>
            <a:ext cx="2170080" cy="130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1052640"/>
            <a:ext cx="1440" cy="1871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BuffSize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1839960"/>
            <a:ext cx="1657440" cy="946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19280" y="1047240"/>
            <a:ext cx="1512720" cy="14511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4221000"/>
            <a:ext cx="1513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95280" y="4076640"/>
            <a:ext cx="1363680" cy="2013120"/>
            <a:chOff x="395280" y="4076640"/>
            <a:chExt cx="1363680" cy="2013120"/>
          </a:xfrm>
        </p:grpSpPr>
        <p:sp>
          <p:nvSpPr>
            <p:cNvPr id="68" name=""/>
            <p:cNvSpPr/>
            <p:nvPr/>
          </p:nvSpPr>
          <p:spPr>
            <a:xfrm>
              <a:off x="395280" y="407664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H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436572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5280" y="465300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280" y="494172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5280" y="522936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5280" y="551808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5280" y="580536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flipV="1">
            <a:off x="1763640" y="4215960"/>
            <a:ext cx="151308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6237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 Buffer (f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71680" y="4216320"/>
            <a:ext cx="2170440" cy="1881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4221000"/>
            <a:ext cx="1800" cy="1872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BuffSize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763640" y="5008680"/>
            <a:ext cx="1657440" cy="946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763640" y="5511960"/>
            <a:ext cx="1513080" cy="1555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5516640"/>
            <a:ext cx="2158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gradFill rotWithShape="0">
            <a:gsLst>
              <a:gs pos="0">
                <a:srgbClr val="8ae234"/>
              </a:gs>
              <a:gs pos="100000">
                <a:srgbClr val="4e9a06"/>
              </a:gs>
            </a:gsLst>
            <a:lin ang="36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ewe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1052640"/>
            <a:ext cx="1440" cy="129672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gradFill rotWithShape="0">
            <a:gsLst>
              <a:gs pos="0">
                <a:srgbClr val="8ae234"/>
              </a:gs>
              <a:gs pos="100000">
                <a:srgbClr val="4e9a06"/>
              </a:gs>
            </a:gsLst>
            <a:lin ang="36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ewe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1080" y="4221000"/>
            <a:ext cx="1440" cy="1872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6360" y="148428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and Time 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573408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and Time 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6165720"/>
            <a:ext cx="1800" cy="287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6453360"/>
            <a:ext cx="1224000" cy="14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308720" y="3928680"/>
            <a:ext cx="1800" cy="2529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06960" y="3933720"/>
            <a:ext cx="1306800" cy="18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3933720"/>
            <a:ext cx="1440" cy="158292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1871640"/>
            <a:ext cx="2700360" cy="187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DDE buffer is a ring buffer, if the buffer 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ull, the oldest data is overwrit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Log buffer and DDE buffer ar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 contains the size of valid data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tes beginning from DSt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If logs are collected and macro runs at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e time, LStart and DStart, LCount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 will contain the equal va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2484360"/>
            <a:ext cx="792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29T15:45:03Z</dcterms:modified>
  <cp:revision>138</cp:revision>
  <dc:subject/>
  <dc:title>DDEのしくみ</dc:title>
</cp:coreProperties>
</file>