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94C-EA25-4136-956A-A9DA0FED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4E3-A057-4921-9685-82A9EA0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C55-AFCD-440E-8391-879654CD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596-F232-4E74-BF29-D249354E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539-E2A9-4196-8FD3-0919F4F7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3B6-B2BD-463B-A929-4BFB98A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FBF-0D8F-4F29-9B54-B99515E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E73-08D0-441B-8051-7EC3F1BA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6CF-EBD3-4C9E-AA44-FA12FD72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1C1-B350-4297-AEFD-7EE0E01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3A7-B577-44DF-B311-E475B665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E42-9D6E-4616-8A92-D5112BC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8E21-CEE3-412C-8BE1-A76E7CEEB6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763560"/>
            <a:ext cx="144792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7635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2952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37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8954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99072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76040" y="15238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76040" y="205740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6040" y="259092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990720"/>
            <a:ext cx="1800" cy="21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6040" y="31240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09480"/>
            <a:ext cx="3657600" cy="289584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7635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3733920" y="895320"/>
            <a:ext cx="213408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>
            <a:off x="3733920" y="1066320"/>
            <a:ext cx="213408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grpSp>
        <p:nvGrpSpPr>
          <p:cNvPr id="63" name=""/>
          <p:cNvGrpSpPr/>
          <p:nvPr/>
        </p:nvGrpSpPr>
        <p:grpSpPr>
          <a:xfrm>
            <a:off x="3962520" y="1170000"/>
            <a:ext cx="1823760" cy="681120"/>
            <a:chOff x="3962520" y="1170000"/>
            <a:chExt cx="1823760" cy="681120"/>
          </a:xfrm>
        </p:grpSpPr>
        <p:sp>
          <p:nvSpPr>
            <p:cNvPr id="64" name=""/>
            <p:cNvSpPr/>
            <p:nvPr/>
          </p:nvSpPr>
          <p:spPr>
            <a:xfrm flipV="1">
              <a:off x="3962520" y="1169640"/>
              <a:ext cx="1747800" cy="681120"/>
            </a:xfrm>
            <a:custGeom>
              <a:avLst/>
              <a:gdLst/>
              <a:ahLst/>
              <a:rect l="l" t="t" r="r" b="b"/>
              <a:pathLst>
                <a:path w="6912" h="5806">
                  <a:moveTo>
                    <a:pt x="0" y="-1022"/>
                  </a:moveTo>
                  <a:lnTo>
                    <a:pt x="-1022" y="-1022"/>
                  </a:lnTo>
                  <a:lnTo>
                    <a:pt x="180" y="90"/>
                  </a:lnTo>
                  <a:lnTo>
                    <a:pt x="2840" y="0"/>
                  </a:lnTo>
                  <a:lnTo>
                    <a:pt x="5698" y="-2879"/>
                  </a:lnTo>
                  <a:lnTo>
                    <a:pt x="4057" y="0"/>
                  </a:lnTo>
                  <a:lnTo>
                    <a:pt x="5890" y="0"/>
                  </a:lnTo>
                  <a:lnTo>
                    <a:pt x="-1022" y="-1022"/>
                  </a:lnTo>
                  <a:lnTo>
                    <a:pt x="270" y="90"/>
                  </a:lnTo>
                  <a:lnTo>
                    <a:pt x="4868" y="318"/>
                  </a:lnTo>
                  <a:lnTo>
                    <a:pt x="4868" y="318"/>
                  </a:lnTo>
                  <a:lnTo>
                    <a:pt x="4868" y="794"/>
                  </a:lnTo>
                  <a:lnTo>
                    <a:pt x="4868" y="2927"/>
                  </a:lnTo>
                  <a:lnTo>
                    <a:pt x="-1022" y="-1022"/>
                  </a:lnTo>
                  <a:lnTo>
                    <a:pt x="1" y="90"/>
                  </a:lnTo>
                  <a:lnTo>
                    <a:pt x="4057" y="1905"/>
                  </a:lnTo>
                  <a:lnTo>
                    <a:pt x="2840" y="1905"/>
                  </a:lnTo>
                  <a:lnTo>
                    <a:pt x="2840" y="1905"/>
                  </a:lnTo>
                  <a:lnTo>
                    <a:pt x="-1022" y="1905"/>
                  </a:lnTo>
                  <a:lnTo>
                    <a:pt x="-1022" y="-102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1244520"/>
              <a:ext cx="1747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DE communication  between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34120" y="2743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3733560" y="2876040"/>
            <a:ext cx="16009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3733560" y="3049560"/>
            <a:ext cx="1600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</p:cxnSp>
      <p:grpSp>
        <p:nvGrpSpPr>
          <p:cNvPr id="69" name=""/>
          <p:cNvGrpSpPr/>
          <p:nvPr/>
        </p:nvGrpSpPr>
        <p:grpSpPr>
          <a:xfrm>
            <a:off x="5715000" y="2005920"/>
            <a:ext cx="1424160" cy="647640"/>
            <a:chOff x="5715000" y="2005920"/>
            <a:chExt cx="1424160" cy="647640"/>
          </a:xfrm>
        </p:grpSpPr>
        <p:sp>
          <p:nvSpPr>
            <p:cNvPr id="70" name=""/>
            <p:cNvSpPr/>
            <p:nvPr/>
          </p:nvSpPr>
          <p:spPr>
            <a:xfrm flipH="1" flipV="1" rot="10800000">
              <a:off x="5715000" y="2005560"/>
              <a:ext cx="1366560" cy="647640"/>
            </a:xfrm>
            <a:custGeom>
              <a:avLst/>
              <a:gdLst/>
              <a:ahLst/>
              <a:rect l="l" t="t" r="r" b="b"/>
              <a:pathLst>
                <a:path w="5754" h="5523">
                  <a:moveTo>
                    <a:pt x="0" y="-972"/>
                  </a:moveTo>
                  <a:lnTo>
                    <a:pt x="-972" y="-972"/>
                  </a:lnTo>
                  <a:lnTo>
                    <a:pt x="180" y="90"/>
                  </a:lnTo>
                  <a:lnTo>
                    <a:pt x="2223" y="0"/>
                  </a:lnTo>
                  <a:lnTo>
                    <a:pt x="4460" y="-2739"/>
                  </a:lnTo>
                  <a:lnTo>
                    <a:pt x="3175" y="0"/>
                  </a:lnTo>
                  <a:lnTo>
                    <a:pt x="4782" y="0"/>
                  </a:lnTo>
                  <a:lnTo>
                    <a:pt x="-972" y="-972"/>
                  </a:lnTo>
                  <a:lnTo>
                    <a:pt x="270" y="90"/>
                  </a:lnTo>
                  <a:lnTo>
                    <a:pt x="3810" y="302"/>
                  </a:lnTo>
                  <a:lnTo>
                    <a:pt x="3810" y="302"/>
                  </a:lnTo>
                  <a:lnTo>
                    <a:pt x="3810" y="755"/>
                  </a:lnTo>
                  <a:lnTo>
                    <a:pt x="3810" y="2784"/>
                  </a:lnTo>
                  <a:lnTo>
                    <a:pt x="-972" y="-972"/>
                  </a:lnTo>
                  <a:lnTo>
                    <a:pt x="1" y="90"/>
                  </a:lnTo>
                  <a:lnTo>
                    <a:pt x="3175" y="1812"/>
                  </a:lnTo>
                  <a:lnTo>
                    <a:pt x="2223" y="1812"/>
                  </a:lnTo>
                  <a:lnTo>
                    <a:pt x="2223" y="1812"/>
                  </a:lnTo>
                  <a:lnTo>
                    <a:pt x="-972" y="1812"/>
                  </a:lnTo>
                  <a:lnTo>
                    <a:pt x="-972" y="-97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4200" y="2054160"/>
              <a:ext cx="134496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stens for local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rt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3920" y="2378160"/>
            <a:ext cx="16002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l TC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92360"/>
            <a:ext cx="1371600" cy="76212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w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7162920" y="2971800"/>
            <a:ext cx="457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334120" y="35067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 flipV="1">
            <a:off x="6248520" y="3199680"/>
            <a:ext cx="2160" cy="3056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14920" y="2135160"/>
            <a:ext cx="1621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era Term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343400"/>
            <a:ext cx="10670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343400"/>
            <a:ext cx="12956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343400"/>
            <a:ext cx="144792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752120" y="3585960"/>
            <a:ext cx="38124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9068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20040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3434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172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34340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9528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55641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51814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617220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867280"/>
            <a:ext cx="220968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11480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91720" y="411480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86728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6781680"/>
            <a:ext cx="236232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10160" y="482616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495680"/>
            <a:ext cx="838080" cy="1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464832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79132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518148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48006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9960" y="101520"/>
            <a:ext cx="3061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 Packag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612720"/>
            <a:ext cx="1396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cro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800600"/>
            <a:ext cx="396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ynamically loaded at Tera Ter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1-30T16:22:49Z</dcterms:modified>
  <cp:revision>70</cp:revision>
  <dc:subject/>
  <dc:title>TeraTermモジュール構成</dc:title>
</cp:coreProperties>
</file>