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6FF8-6828-42E9-A38A-1CCF23D3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3EB8-5BC5-4429-A67A-1EE9912B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0615-9F3D-4AAF-98B3-08E6B0C12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1EB7-C038-4F77-A63C-16B7F540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ACD2-9BD6-4FD4-B9BA-DCDDA9C5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A9EE-0659-4565-91AB-4624DE91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A139-B348-49A1-A21A-686E1B02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9217-B94D-44B8-B6CD-D2AE0DB6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6F7E-4B2C-4230-A83A-F3500420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F1DB-7D47-4DAF-B44E-3F796B73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5835-4AB4-4462-89A5-49BB7BC0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0B00-D37F-4A3E-A210-8EC1B317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D85D5-07D0-42E2-94CC-23DEA045E75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 Packet Format(without compress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468360" y="1916280"/>
            <a:ext cx="2016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by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ket Si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>
            <a:off x="2484360" y="1916280"/>
            <a:ext cx="11509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by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g Endia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1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dding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3635280" y="1916280"/>
            <a:ext cx="2890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by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dding 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6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4319640" y="3141720"/>
            <a:ext cx="12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cryption targe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3635280" y="2421000"/>
            <a:ext cx="3600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Freeform 20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6084720" y="1413000"/>
            <a:ext cx="1151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Freeform 22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3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484360" y="1773360"/>
            <a:ext cx="1800" cy="23763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25"/>
          <p:cNvSpPr/>
          <p:nvPr/>
        </p:nvSpPr>
        <p:spPr>
          <a:xfrm>
            <a:off x="7236000" y="1773360"/>
            <a:ext cx="1440" cy="115092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8675640" y="1773360"/>
            <a:ext cx="1800" cy="23763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27"/>
          <p:cNvSpPr/>
          <p:nvPr/>
        </p:nvSpPr>
        <p:spPr>
          <a:xfrm>
            <a:off x="7236000" y="1916280"/>
            <a:ext cx="14396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8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by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29"/>
          <p:cNvSpPr/>
          <p:nvPr/>
        </p:nvSpPr>
        <p:spPr>
          <a:xfrm>
            <a:off x="3635280" y="1773360"/>
            <a:ext cx="1800" cy="64764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30"/>
          <p:cNvSpPr/>
          <p:nvPr/>
        </p:nvSpPr>
        <p:spPr>
          <a:xfrm>
            <a:off x="4535640" y="4365720"/>
            <a:ext cx="14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mission targe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1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Once the packet construction and encryption has been completed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SSH2 packet is transmitted in 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finish_send_packet_special (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CP communication with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nd_packet_blocking (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2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ptional Fiel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 Packet Format(with compress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68360" y="2997360"/>
            <a:ext cx="2016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by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ket Si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>
            <a:off x="2484360" y="2997360"/>
            <a:ext cx="11509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by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3635280" y="2997360"/>
            <a:ext cx="2890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by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dding 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6732720" y="2997360"/>
            <a:ext cx="14396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by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6"/>
          <p:cNvSpPr/>
          <p:nvPr/>
        </p:nvSpPr>
        <p:spPr>
          <a:xfrm>
            <a:off x="1476360" y="5373720"/>
            <a:ext cx="6192720" cy="1106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Payload compression happens before SSH2 packet is constructed and encryp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Packet is transmitted in 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finish_send_packet_special (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ase of compression payload size may incre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7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19"/>
          <p:cNvGrpSpPr/>
          <p:nvPr/>
        </p:nvGrpSpPr>
        <p:grpSpPr>
          <a:xfrm>
            <a:off x="2055960" y="1268280"/>
            <a:ext cx="1433520" cy="284400"/>
            <a:chOff x="2055960" y="1268280"/>
            <a:chExt cx="1433520" cy="284400"/>
          </a:xfrm>
        </p:grpSpPr>
        <p:sp>
          <p:nvSpPr>
            <p:cNvPr id="96" name="Rectangle 20"/>
            <p:cNvSpPr/>
            <p:nvPr/>
          </p:nvSpPr>
          <p:spPr>
            <a:xfrm>
              <a:off x="2055960" y="1268280"/>
              <a:ext cx="28404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Rectangle 21"/>
            <p:cNvSpPr/>
            <p:nvPr/>
          </p:nvSpPr>
          <p:spPr>
            <a:xfrm>
              <a:off x="2343240" y="1268280"/>
              <a:ext cx="28404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22"/>
            <p:cNvSpPr/>
            <p:nvPr/>
          </p:nvSpPr>
          <p:spPr>
            <a:xfrm>
              <a:off x="2630520" y="1268280"/>
              <a:ext cx="28404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917800" y="1268280"/>
              <a:ext cx="28404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Rectangle 24"/>
            <p:cNvSpPr/>
            <p:nvPr/>
          </p:nvSpPr>
          <p:spPr>
            <a:xfrm>
              <a:off x="3205080" y="1268280"/>
              <a:ext cx="28440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AutoShape 25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6"/>
          <p:cNvSpPr/>
          <p:nvPr/>
        </p:nvSpPr>
        <p:spPr>
          <a:xfrm>
            <a:off x="4500720" y="9079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 compre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7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essed Paylo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28"/>
          <p:cNvSpPr/>
          <p:nvPr/>
        </p:nvSpPr>
        <p:spPr>
          <a:xfrm>
            <a:off x="3492360" y="836640"/>
            <a:ext cx="1800" cy="43164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9"/>
          <p:cNvSpPr/>
          <p:nvPr/>
        </p:nvSpPr>
        <p:spPr>
          <a:xfrm flipH="1">
            <a:off x="5144760" y="836640"/>
            <a:ext cx="509400" cy="43164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30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31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2"/>
          <p:cNvSpPr/>
          <p:nvPr/>
        </p:nvSpPr>
        <p:spPr>
          <a:xfrm>
            <a:off x="3924360" y="184464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ket constr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essed Paylo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34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35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36"/>
          <p:cNvSpPr/>
          <p:nvPr/>
        </p:nvSpPr>
        <p:spPr>
          <a:xfrm>
            <a:off x="2484360" y="2852640"/>
            <a:ext cx="1800" cy="16560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37"/>
          <p:cNvSpPr/>
          <p:nvPr/>
        </p:nvSpPr>
        <p:spPr>
          <a:xfrm>
            <a:off x="6732720" y="2852640"/>
            <a:ext cx="1440" cy="7923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38"/>
          <p:cNvSpPr/>
          <p:nvPr/>
        </p:nvSpPr>
        <p:spPr>
          <a:xfrm>
            <a:off x="8172360" y="2852640"/>
            <a:ext cx="1800" cy="16560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39"/>
          <p:cNvSpPr/>
          <p:nvPr/>
        </p:nvSpPr>
        <p:spPr>
          <a:xfrm>
            <a:off x="3959280" y="3789360"/>
            <a:ext cx="15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cryption targe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0"/>
          <p:cNvSpPr/>
          <p:nvPr/>
        </p:nvSpPr>
        <p:spPr>
          <a:xfrm>
            <a:off x="4356000" y="4653000"/>
            <a:ext cx="14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mission targe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cp:keywords/>
  <dc:language>en-US</dc:language>
  <cp:lastModifiedBy>maya negeta</cp:lastModifiedBy>
  <dcterms:modified xsi:type="dcterms:W3CDTF">2018-01-27T04:08:33Z</dcterms:modified>
  <cp:revision>307</cp:revision>
  <dc:subject/>
  <dc:title>DDEのしくみ</dc:title>
</cp:coreProperties>
</file>