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B11-4B4B-4CBF-B895-7365DB68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B6A-EC70-45C8-981E-631E40C5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7BB-5345-4645-84F5-A5AAE7FA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E40-F1F3-4C52-B260-B023F568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304-5A48-42EA-A838-2AE6FCEF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0DF-6E16-4366-895F-A208C242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A15-A230-46AA-B458-BD029DA8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DCA-5C58-4E5E-A610-0B6DDA7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3F7-D8DA-4F40-B589-EBBC4797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275-198D-4B27-8FDE-B043204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B8E-03B2-4ECE-8DE6-71781999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857-A7D3-4E3D-8DB7-2DC5759F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1644A-7450-4FA8-912A-D4C542E217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stablishing SSH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04640"/>
            <a:ext cx="1440" cy="6264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125360"/>
            <a:ext cx="504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940360" y="549360"/>
          <a:ext cx="2666880" cy="1358280"/>
        </p:xfrm>
        <a:graphic>
          <a:graphicData uri="http://schemas.openxmlformats.org/drawingml/2006/table">
            <a:tbl>
              <a:tblPr/>
              <a:tblGrid>
                <a:gridCol w="1224720"/>
                <a:gridCol w="1442160"/>
              </a:tblGrid>
              <a:tr h="27144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k 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k Dest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27280" y="692280"/>
            <a:ext cx="757440" cy="576000"/>
          </a:xfrm>
          <a:prstGeom prst="wedgeRoundRectCallout">
            <a:avLst>
              <a:gd name="adj1" fmla="val -74532"/>
              <a:gd name="adj2" fmla="val 2763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ocket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68280"/>
            <a:ext cx="180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133720"/>
            <a:ext cx="1800" cy="3585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1916280"/>
            <a:ext cx="505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 to establishing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2708280"/>
            <a:ext cx="505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2303640"/>
            <a:ext cx="2160720" cy="693720"/>
          </a:xfrm>
          <a:prstGeom prst="wedgeRoundRectCallout">
            <a:avLst>
              <a:gd name="adj1" fmla="val -55495"/>
              <a:gd name="adj2" fmla="val 547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s to server. If successful, FD_CONNECT message is sent to 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57336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4149720"/>
            <a:ext cx="50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3141720"/>
            <a:ext cx="1549440" cy="574560"/>
          </a:xfrm>
          <a:prstGeom prst="wedgeRoundRectCallout">
            <a:avLst>
              <a:gd name="adj1" fmla="val -95314"/>
              <a:gd name="adj2" fmla="val 8806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er FD_READ | FD_OOB | FD_CLO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4149720"/>
            <a:ext cx="431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414972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user authentication dialo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94172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66100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6237360"/>
            <a:ext cx="50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165720"/>
            <a:ext cx="431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4581360"/>
            <a:ext cx="1872000" cy="746280"/>
          </a:xfrm>
          <a:prstGeom prst="wedgeRoundRectCallout">
            <a:avLst>
              <a:gd name="adj1" fmla="val -80009"/>
              <a:gd name="adj2" fmla="val -203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ning of communication ”Protocol Version Exchange” is sent by the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6165720"/>
            <a:ext cx="431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5832360"/>
            <a:ext cx="2089440" cy="863640"/>
          </a:xfrm>
          <a:prstGeom prst="wedgeRoundRectCallout">
            <a:avLst>
              <a:gd name="adj1" fmla="val -61851"/>
              <a:gd name="adj2" fmla="val -1347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validating the server version information, client(TTSSH) version information is sent to the server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5:35:47Z</dcterms:modified>
  <cp:revision>242</cp:revision>
  <dc:subject/>
  <dc:title>DDEのしくみ</dc:title>
</cp:coreProperties>
</file>