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3BF-38CC-47BA-9D99-CDCEC8D6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385-7C12-4019-B961-CFE153D3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5D-04E8-49A7-AED2-D38200D5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315-D9A1-4325-B471-94C42CC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A01-BEEE-4AB8-8B1A-90FC4CC8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984-DD4E-4498-94B0-67157FD7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323-4195-45B7-B26B-883BD32A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5E8-B79F-48B1-98F6-AFB04E63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BE3-55D5-476F-9580-3B83090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342-00F0-4F34-B294-1DD4617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BE3-F046-4CFA-BB7A-8B29B0D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432-6B55-44B8-90E9-BB064C8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BCAFD-B7ED-476D-903E-062E36796D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Flow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052640"/>
            <a:ext cx="1440" cy="424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5480" y="1628640"/>
            <a:ext cx="187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1480" y="1341360"/>
            <a:ext cx="14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2133720"/>
            <a:ext cx="502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2421000"/>
            <a:ext cx="1584360" cy="1827000"/>
          </a:xfrm>
          <a:prstGeom prst="wedgeRoundRectCallout">
            <a:avLst>
              <a:gd name="adj1" fmla="val 59611"/>
              <a:gd name="adj2" fmla="val -65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log col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d data is stored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E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uffer is full, the old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will be overwritt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052640"/>
            <a:ext cx="180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91628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8464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32360" y="1912680"/>
            <a:ext cx="1440" cy="1374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780000"/>
            <a:ext cx="1620720" cy="1116000"/>
          </a:xfrm>
          <a:prstGeom prst="wedgeRoundRectCallout">
            <a:avLst>
              <a:gd name="adj1" fmla="val -11152"/>
              <a:gd name="adj2" fmla="val -8124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 Loop contai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 sent to DDE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2276640"/>
            <a:ext cx="72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r sav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4000" y="5661000"/>
            <a:ext cx="4248000" cy="1035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acro comm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tsyn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used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era Term and Macro applications is synchroniz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ig amounts of data are sent by remote host, portion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may be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50:52Z</dcterms:modified>
  <cp:revision>186</cp:revision>
  <dc:subject/>
  <dc:title>DDEのしくみ</dc:title>
</cp:coreProperties>
</file>