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6E2-5C81-4AD3-A2F5-EBB2FF1E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520-4778-4D04-BE27-D9E793EA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BB8-7E5F-4ADB-803F-BF1A4CE5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A0D-ACB6-4515-B675-44107891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6CFB-FD2A-44CF-9D2F-DFD71F14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D03-B4E6-4DCF-AA3D-98943C4F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4F81-6ABA-45B5-84BB-30E72A11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9ACD-0547-440E-8BAD-B70125B1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A3F7-86BE-4736-8708-AAFA3C5A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255-44F1-4633-85CF-05CB7D58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3FB-3C0B-4568-B73F-A0467B82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EB3-E2D9-4FAC-A066-53918112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3D315-4A0E-4504-8FF2-AE6E1223FE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 Fowar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5280" y="1557360"/>
            <a:ext cx="1800" cy="1295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3716280"/>
            <a:ext cx="1800" cy="1295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1557360"/>
            <a:ext cx="1800" cy="129528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3716280"/>
            <a:ext cx="1800" cy="129528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handle_SSH2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buffered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800000">
            <a:off x="2340000" y="429552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rite_local_connection_buffe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30T16:29:23Z</dcterms:modified>
  <cp:revision>359</cp:revision>
  <dc:subject/>
  <dc:title>DDEのしくみ</dc:title>
</cp:coreProperties>
</file>