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823-7DD5-47C4-8C0D-BDF67226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B85-8873-475F-9C37-03E8B8A1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CD7-B55F-41E4-9308-6FA1CADA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EE0-1533-40D3-8EE2-D2AA87E4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BB8-BDC0-4C48-9DF0-11F4E8B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20E-3AB1-45DF-B351-9DBBC11B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BB6-C4C4-4037-8C89-CD97F0CB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6C2-4AC6-4B21-A006-52DC7D77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785-0FF2-4AB1-9AE4-6F3FF582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FF2-A2DE-4F42-8D0E-F1B2B321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6C3-EF3A-4E26-A80E-5F9F941A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276-3500-408D-8367-3755D7CA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3917-AAA7-4F9F-A17C-212C3A290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53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4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61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62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63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67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68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69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70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71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パディングサイ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73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5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6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8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79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0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81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2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5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86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87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8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9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0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1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2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3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4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5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96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7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4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3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Rectangle 38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44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5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7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8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0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1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3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4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5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6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7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0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 negeta</cp:lastModifiedBy>
  <dcterms:modified xsi:type="dcterms:W3CDTF">2018-01-27T04:07:34Z</dcterms:modified>
  <cp:revision>277</cp:revision>
  <dc:subject/>
  <dc:title>DDEのしくみ</dc:title>
</cp:coreProperties>
</file>