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1C3-AD73-454A-90AA-A0A84F54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9DF-83C6-42BF-8A8B-92074A5D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5A7-597E-4059-8C7F-CA223CD2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3B4-0CA9-44EC-B0DC-FCA13566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7A7-3568-4722-B12A-20D24C2A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55C-6947-4CDC-9A4A-0D8BA179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587-2A51-4C7B-8FD2-C67CF6F1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3EF-CF6D-492F-859F-08D9358A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4E7-7516-4937-9D61-1E851D82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EF3-BDE9-4573-97BE-41294D00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C70-CB82-4CE3-BFF8-48EF332B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D53-0D7F-467F-8675-B044900F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4872D-9DFD-4C80-9404-8A3BA1C2C1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Authentication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1268280"/>
            <a:ext cx="1800" cy="172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1268280"/>
            <a:ext cx="1440" cy="172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155736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65120" y="191772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a passwo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5120" y="22766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5120" y="26607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349360"/>
            <a:ext cx="1440000" cy="530280"/>
          </a:xfrm>
          <a:prstGeom prst="wedgeRoundRectCallout">
            <a:avLst>
              <a:gd name="adj1" fmla="val 80638"/>
              <a:gd name="adj2" fmla="val 823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rmation of successful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invi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489744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5120" y="525780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5120" y="561672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65120" y="60008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508640"/>
            <a:ext cx="1800" cy="1800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 Authentication(public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4508640"/>
            <a:ext cx="1440" cy="1800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public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4579920"/>
            <a:ext cx="1836720" cy="361800"/>
          </a:xfrm>
          <a:prstGeom prst="wedgeRoundRectCallout">
            <a:avLst>
              <a:gd name="adj1" fmla="val -69541"/>
              <a:gd name="adj2" fmla="val 4204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tching authorized_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300640"/>
            <a:ext cx="1584360" cy="603360"/>
          </a:xfrm>
          <a:prstGeom prst="wedgeRoundRectCallout">
            <a:avLst>
              <a:gd name="adj1" fmla="val 68421"/>
              <a:gd name="adj2" fmla="val 181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ignature generated using private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fying the sign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Authentication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1052640"/>
            <a:ext cx="1440" cy="554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3080" y="1052640"/>
            <a:ext cx="1440" cy="554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1052640"/>
            <a:ext cx="1800" cy="554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3013200"/>
            <a:ext cx="25891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97480" y="3373560"/>
            <a:ext cx="25956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497480" y="5776920"/>
            <a:ext cx="25956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497480" y="6161040"/>
            <a:ext cx="25956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5605560"/>
            <a:ext cx="1440000" cy="585720"/>
          </a:xfrm>
          <a:prstGeom prst="wedgeRoundRectCallout">
            <a:avLst>
              <a:gd name="adj1" fmla="val 75342"/>
              <a:gd name="adj2" fmla="val -194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ing signature generated using private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tch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fying the sign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2104920"/>
            <a:ext cx="2737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60400" y="1663560"/>
            <a:ext cx="27432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500120"/>
            <a:ext cx="1296720" cy="515880"/>
          </a:xfrm>
          <a:prstGeom prst="wedgeRoundRectCallout">
            <a:avLst>
              <a:gd name="adj1" fmla="val 65763"/>
              <a:gd name="adj2" fmla="val 6519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all registered public 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ep sending public keys until PK_OK is recei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5057640"/>
            <a:ext cx="2737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60400" y="4616280"/>
            <a:ext cx="27432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ing public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3887640"/>
            <a:ext cx="1150920" cy="792360"/>
          </a:xfrm>
          <a:prstGeom prst="wedgeRoundRectCallout">
            <a:avLst>
              <a:gd name="adj1" fmla="val -70134"/>
              <a:gd name="adj2" fmla="val 4231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igning reque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452840"/>
            <a:ext cx="1296720" cy="587520"/>
          </a:xfrm>
          <a:prstGeom prst="wedgeRoundRectCallout">
            <a:avLst>
              <a:gd name="adj1" fmla="val 65763"/>
              <a:gd name="adj2" fmla="val 51222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ignature generated using private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public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4:52:57Z</dcterms:modified>
  <cp:revision>368</cp:revision>
  <dc:subject/>
  <dc:title>DDEのしくみ</dc:title>
</cp:coreProperties>
</file>