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011-9CD1-45C0-AE22-2817B21C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152-EC9E-43C4-AB79-B1B84E61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C85-B65E-4C1B-B542-F7AF4122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C80-FC67-4385-A564-936F98DF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4DC-5A85-4CCF-A03C-12552544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A8E-1B94-4C7B-A2E0-996E78CA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948-DC3B-4748-9EA3-91BC7967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28A-0FD8-455E-9399-1AB85C48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ACE-305F-460C-A7AE-876DE2EB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2CC-86B9-4586-AE17-4DC75352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FCB-1957-4477-8091-5459C67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31D-82BC-4945-A42C-67E4A63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6A6B7-B42A-478D-BBE5-A771AF9D19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 SSH2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341360"/>
            <a:ext cx="8353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49360"/>
            <a:ext cx="2303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549360"/>
            <a:ext cx="180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981000"/>
            <a:ext cx="935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1773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125360"/>
            <a:ext cx="180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buflen = READAMOUNT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6237360"/>
            <a:ext cx="4537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5445000"/>
            <a:ext cx="3240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by the recv(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5300640"/>
            <a:ext cx="194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5300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3933720"/>
            <a:ext cx="201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393372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429264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429264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4149720"/>
            <a:ext cx="863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724280"/>
            <a:ext cx="20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78136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278136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637000"/>
            <a:ext cx="647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2637000"/>
            <a:ext cx="2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27320" y="2060640"/>
            <a:ext cx="1800" cy="57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sing one SSH2 pa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turning plain data passed in SSH2_MSG_CHANNEL_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4:39:10Z</dcterms:modified>
  <cp:revision>351</cp:revision>
  <dc:subject/>
  <dc:title>DDEのしくみ</dc:title>
</cp:coreProperties>
</file>