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277-E40F-4224-B8BF-9FCF910F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4DB-6D5A-419B-8721-BE2C385F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075-D1AB-4CC8-A0FC-E53BA7D0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83D-EB86-43BC-8E5F-9298E860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A445-ED66-4101-A85A-F4C84B7B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930-7B1F-4CE7-A15F-81BC27EB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854-B195-40EC-B8B7-8D7C85F7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C89-DE96-4E58-AC49-85C200FC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01CC-EBD5-4622-BEF1-C249F97B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69C-95A8-4C04-A663-BE00F04A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D3B-C195-40D5-88DE-3D9BAC54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3BE-0442-4170-ACD4-3008AE1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952A0-CAE3-44BB-887C-4F1D065D1D1C}" type="slidenum">
              <a:rPr b="0" lang="ja-JP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352600" y="1089000"/>
            <a:ext cx="1444680" cy="45396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376880" y="1089000"/>
            <a:ext cx="1296720" cy="45396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3800520" y="1317600"/>
            <a:ext cx="5763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124000" y="936720"/>
            <a:ext cx="5100840" cy="1368360"/>
          </a:xfrm>
          <a:prstGeom prst="rect">
            <a:avLst/>
          </a:prstGeom>
          <a:noFill/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2201760" y="1641600"/>
            <a:ext cx="17496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libri"/>
              </a:rPr>
              <a:t>Tera Term 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724360" y="1052640"/>
            <a:ext cx="14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Expressions Libr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352600" y="2841480"/>
            <a:ext cx="1444680" cy="45432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376880" y="2835360"/>
            <a:ext cx="1296720" cy="45396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3797280" y="308772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2124000" y="2556000"/>
            <a:ext cx="5100840" cy="1501560"/>
          </a:xfrm>
          <a:prstGeom prst="rect">
            <a:avLst/>
          </a:prstGeom>
          <a:noFill/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2201760" y="3394080"/>
            <a:ext cx="17496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libri"/>
              </a:rPr>
              <a:t>Macro 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5724360" y="2805120"/>
            <a:ext cx="14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Expressions Libr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グループ化 1"/>
          <p:cNvGrpSpPr/>
          <p:nvPr/>
        </p:nvGrpSpPr>
        <p:grpSpPr>
          <a:xfrm>
            <a:off x="2095560" y="4441680"/>
            <a:ext cx="5102280" cy="1901880"/>
            <a:chOff x="2095560" y="4441680"/>
            <a:chExt cx="5102280" cy="1901880"/>
          </a:xfrm>
        </p:grpSpPr>
        <p:sp>
          <p:nvSpPr>
            <p:cNvPr id="61" name="Rectangle 17"/>
            <p:cNvSpPr/>
            <p:nvPr/>
          </p:nvSpPr>
          <p:spPr>
            <a:xfrm>
              <a:off x="2324160" y="4593960"/>
              <a:ext cx="1444680" cy="453960"/>
            </a:xfrm>
            <a:prstGeom prst="rect">
              <a:avLst/>
            </a:prstGeom>
            <a:solidFill>
              <a:srgbClr val="c6d9f1"/>
            </a:solidFill>
            <a:ln w="324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txssh.d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8"/>
            <p:cNvSpPr/>
            <p:nvPr/>
          </p:nvSpPr>
          <p:spPr>
            <a:xfrm>
              <a:off x="4381560" y="4593960"/>
              <a:ext cx="1292040" cy="453960"/>
            </a:xfrm>
            <a:prstGeom prst="rect">
              <a:avLst/>
            </a:prstGeom>
            <a:noFill/>
            <a:ln w="324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nSS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9"/>
            <p:cNvSpPr/>
            <p:nvPr/>
          </p:nvSpPr>
          <p:spPr>
            <a:xfrm>
              <a:off x="4381560" y="5127480"/>
              <a:ext cx="1292040" cy="453960"/>
            </a:xfrm>
            <a:prstGeom prst="rect">
              <a:avLst/>
            </a:prstGeom>
            <a:noFill/>
            <a:ln w="324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li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4381560" y="5661000"/>
              <a:ext cx="1292040" cy="453960"/>
            </a:xfrm>
            <a:prstGeom prst="rect">
              <a:avLst/>
            </a:prstGeom>
            <a:noFill/>
            <a:ln w="324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T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1"/>
            <p:cNvSpPr/>
            <p:nvPr/>
          </p:nvSpPr>
          <p:spPr>
            <a:xfrm>
              <a:off x="3770280" y="4822560"/>
              <a:ext cx="6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2"/>
            <p:cNvSpPr/>
            <p:nvPr/>
          </p:nvSpPr>
          <p:spPr>
            <a:xfrm flipH="1">
              <a:off x="4071600" y="535464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3"/>
            <p:cNvSpPr/>
            <p:nvPr/>
          </p:nvSpPr>
          <p:spPr>
            <a:xfrm flipH="1">
              <a:off x="4071600" y="588960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4"/>
            <p:cNvSpPr/>
            <p:nvPr/>
          </p:nvSpPr>
          <p:spPr>
            <a:xfrm>
              <a:off x="4076640" y="4822560"/>
              <a:ext cx="0" cy="10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25"/>
            <p:cNvSpPr/>
            <p:nvPr/>
          </p:nvSpPr>
          <p:spPr>
            <a:xfrm>
              <a:off x="2095560" y="4441680"/>
              <a:ext cx="5102280" cy="1901880"/>
            </a:xfrm>
            <a:prstGeom prst="rect">
              <a:avLst/>
            </a:prstGeom>
            <a:noFill/>
            <a:ln w="3240">
              <a:solidFill>
                <a:srgbClr val="3a5f8b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6"/>
            <p:cNvSpPr/>
            <p:nvPr/>
          </p:nvSpPr>
          <p:spPr>
            <a:xfrm>
              <a:off x="2324160" y="5127480"/>
              <a:ext cx="14446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Calibri"/>
                </a:rPr>
                <a:t>SSH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70c0"/>
                  </a:solidFill>
                  <a:latin typeface="Calibri"/>
                </a:rPr>
                <a:t>Modu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7"/>
            <p:cNvSpPr/>
            <p:nvPr/>
          </p:nvSpPr>
          <p:spPr>
            <a:xfrm>
              <a:off x="5677200" y="4589280"/>
              <a:ext cx="129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ryptograph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ibr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5677200" y="5122800"/>
              <a:ext cx="129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mpression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ibr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9"/>
            <p:cNvSpPr/>
            <p:nvPr/>
          </p:nvSpPr>
          <p:spPr>
            <a:xfrm>
              <a:off x="5677200" y="5661000"/>
              <a:ext cx="14446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ageant Interaction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ibr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Rectangle 11"/>
          <p:cNvSpPr/>
          <p:nvPr/>
        </p:nvSpPr>
        <p:spPr>
          <a:xfrm>
            <a:off x="4376880" y="3435480"/>
            <a:ext cx="1296720" cy="45396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M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 flipH="1">
            <a:off x="3951360" y="3670200"/>
            <a:ext cx="4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4"/>
          <p:cNvSpPr/>
          <p:nvPr/>
        </p:nvSpPr>
        <p:spPr>
          <a:xfrm>
            <a:off x="3951360" y="3087720"/>
            <a:ext cx="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5724360" y="3400560"/>
            <a:ext cx="14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eudorandom number gener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cp:keywords/>
  <dc:language>en-US</dc:language>
  <cp:lastModifiedBy>maya negeta</cp:lastModifiedBy>
  <dcterms:modified xsi:type="dcterms:W3CDTF">2017-06-01T12:00:48Z</dcterms:modified>
  <cp:revision>89</cp:revision>
  <dc:subject/>
  <dc:title>TeraTermモジュール構成</dc:title>
</cp:coreProperties>
</file>