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C081-BF4F-4905-B3BA-9ECD7B05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3B70-3213-44AB-8651-CC048B44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D49-2839-4E06-95CF-05824420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4F8-73D1-4B8E-AC39-42C272C9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F0C7-47C8-490C-971E-28A03521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87A7-C5F0-4E00-AB15-92393561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877-3607-45A9-A148-D0469A00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A06-00F8-4798-A0F1-EBA9D58A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9CB1-B9E7-4F91-BC8C-8EBDA627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463F-247E-4B6C-91BD-AEADC0D0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770F-F51A-42FC-A955-0815604D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22AB-6F31-4673-9CA4-BFD7B8EE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FEFE01-57A4-4C1F-BD5C-9F991D084C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1440" cy="17287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9280" y="5373720"/>
            <a:ext cx="151272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06560" y="5373720"/>
            <a:ext cx="151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0840"/>
            <a:ext cx="1440" cy="2919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99160" y="404028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2840" y="586908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66040" y="4040280"/>
            <a:ext cx="15238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66040" y="4649760"/>
            <a:ext cx="15238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MeTTv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66040" y="5261040"/>
            <a:ext cx="15238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MeTTi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99160" y="487836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roWizard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66040" y="5869080"/>
            <a:ext cx="152388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0560" y="3811680"/>
            <a:ext cx="4572000" cy="144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0560" y="5564160"/>
            <a:ext cx="2209680" cy="144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0560" y="3811680"/>
            <a:ext cx="1440" cy="175248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2560" y="3811680"/>
            <a:ext cx="1440" cy="266688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80240" y="5564160"/>
            <a:ext cx="1440" cy="91440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80240" y="6478560"/>
            <a:ext cx="2362320" cy="144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61000" y="4522680"/>
            <a:ext cx="18954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LogMeTT Pac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27960" y="4192560"/>
            <a:ext cx="838080" cy="1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85160" y="4344840"/>
            <a:ext cx="1440" cy="1143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85160" y="548784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85160" y="487836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28160" y="449748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7960" y="4344840"/>
            <a:ext cx="45720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/>
  <dcterms:modified xsi:type="dcterms:W3CDTF">2015-10-03T17:36:28Z</dcterms:modified>
  <cp:revision>66</cp:revision>
  <dc:subject/>
  <dc:title>TeraTermモジュール構成</dc:title>
</cp:coreProperties>
</file>