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4B7A-C2CE-4797-A6B1-433C514B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822816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960"/>
            <a:ext cx="822816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5F91-52D8-4584-BB5F-2615EBFF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96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96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DC9-21F5-4BD9-B786-4BCE0391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552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552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96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96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96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A6A-277D-49DF-831D-A620B9D7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520"/>
            <a:ext cx="822816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EE74-6C83-4F7D-9315-C078C4BA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8228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6FE3-8A6F-4B5E-AE0B-24FC7CAF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40150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5520"/>
            <a:ext cx="40150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469D-B14D-44B8-B7A5-78488345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828-005D-4CFD-8B8D-2377F4D8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E2F-D3BA-4678-A27D-CAEE4C6C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5520"/>
            <a:ext cx="40150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96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5DB-97A4-4305-93D2-6ADA26C1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40150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96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249-F464-4140-9902-6B1DA3C7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960"/>
            <a:ext cx="822816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3EC-EFB3-49DA-BADA-52F61F0F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520"/>
            <a:ext cx="8228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51040"/>
            <a:ext cx="2131920" cy="4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51040"/>
            <a:ext cx="2894040" cy="4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2280" cy="4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A41FA-831C-471A-B744-800CFB1F3A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Connection Setup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8360" y="905040"/>
            <a:ext cx="180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905040"/>
            <a:ext cx="144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120348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833400"/>
            <a:ext cx="1690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 conn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265120" y="163188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hanging version inform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5120" y="198900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5120" y="234648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5120" y="263196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ing to exchange key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5120" y="300024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64000"/>
            <a:ext cx="1439640" cy="550800"/>
          </a:xfrm>
          <a:prstGeom prst="wedgeRoundRectCallout">
            <a:avLst>
              <a:gd name="adj1" fmla="val 70722"/>
              <a:gd name="adj2" fmla="val 111134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enera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265120" y="342900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65120" y="378612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5120" y="415620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265120" y="465624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265120" y="501336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 key gener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ing from here communication 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crypted with DH key(common key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ing user authent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265120" y="558468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265120" y="595296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5227560"/>
            <a:ext cx="4103640" cy="1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6000" y="3786120"/>
            <a:ext cx="1584360" cy="441360"/>
          </a:xfrm>
          <a:prstGeom prst="wedgeRoundRectCallout">
            <a:avLst>
              <a:gd name="adj1" fmla="val 79421"/>
              <a:gd name="adj2" fmla="val 2937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hecking “known_hosts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Connection Setup Sequence(continu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68360" y="905040"/>
            <a:ext cx="180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905040"/>
            <a:ext cx="144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119700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265120" y="155736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431640"/>
            <a:ext cx="1548000" cy="863640"/>
          </a:xfrm>
          <a:prstGeom prst="wedgeRoundRectCallout">
            <a:avLst>
              <a:gd name="adj1" fmla="val 77981"/>
              <a:gd name="adj2" fmla="val 39000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ing list of supported  authentication methods. Method is set to “none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198612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user name and passwor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265120" y="241452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cessful authent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68360" y="285120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session “session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265120" y="320832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68360" y="428472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questing shell “pty-req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5120" y="465444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5011560"/>
            <a:ext cx="3167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shell “shell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5120" y="544032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SSH server's window siz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65120" y="579744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265120" y="623736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shell inform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ssed to Tera Term Core. Tera Term then waits for recv() to return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ith enabled CheckAuthListFir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f disabled, user will need to choose correct authentication meth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2703600"/>
            <a:ext cx="1800360" cy="392040"/>
          </a:xfrm>
          <a:prstGeom prst="wedgeRoundRectCallout">
            <a:avLst>
              <a:gd name="adj1" fmla="val -59074"/>
              <a:gd name="adj2" fmla="val -18904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case of password authent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3570120"/>
            <a:ext cx="3167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ending agent request  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65120" y="392436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6000" y="3959280"/>
            <a:ext cx="1871640" cy="479520"/>
          </a:xfrm>
          <a:prstGeom prst="wedgeRoundRectCallout">
            <a:avLst>
              <a:gd name="adj1" fmla="val -57708"/>
              <a:gd name="adj2" fmla="val -94398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ith valid ForwardAg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72360" y="1655640"/>
            <a:ext cx="2411280" cy="863640"/>
          </a:xfrm>
          <a:prstGeom prst="wedgeRoundRectCallout">
            <a:avLst>
              <a:gd name="adj1" fmla="val -89074"/>
              <a:gd name="adj2" fmla="val -62907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list of supported authentication metho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 is returned, but not added to the server's log fi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Connection Close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905040"/>
            <a:ext cx="180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5640" y="905040"/>
            <a:ext cx="144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120348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265120" y="163188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g out from the shel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5120" y="206064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265120" y="256068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265120" y="300024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losing TCP session and notifying Tera Term Core that session was clos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2-01T15:31:14Z</dcterms:modified>
  <cp:revision>362</cp:revision>
  <dc:subject/>
  <dc:title>DDEのしくみ</dc:title>
</cp:coreProperties>
</file>