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7AA8-7B0D-4FCA-BFBC-D27EB1DE1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8CDA-3DE6-49EB-9CC7-87262ADAB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72A2-97EA-40B8-B8EF-59B8B8FED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2129-BE21-498C-B3B7-0111BFD3E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F6F7-6B56-4E34-8695-CA9360B8A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61DC-7AB6-4FF8-9430-613FACED3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4E9A-68D5-43CF-A990-AB70632FA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4072-E122-45AF-89F5-E262876F2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2E25-391F-4AD4-8791-0A230DBFC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B533-10B6-4A3C-A070-7E284C7F5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652F-850B-40EA-9DB4-952B77660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5347-7A70-4A57-BA3C-1E50A0222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FD9CE3-F417-4D3B-A99F-E7F5602E9AE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seudo-Term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9280" y="1125360"/>
            <a:ext cx="863640" cy="43200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28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4000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68360" y="1125360"/>
            <a:ext cx="863640" cy="43200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1341360"/>
            <a:ext cx="1225440" cy="18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728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p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9564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t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32000" y="1341360"/>
            <a:ext cx="287640" cy="18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19640" y="1341360"/>
            <a:ext cx="1440" cy="50328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19640" y="1557360"/>
            <a:ext cx="1081080" cy="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00720" y="1557360"/>
            <a:ext cx="1440" cy="28728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672000" y="863640"/>
            <a:ext cx="1403280" cy="576360"/>
          </a:xfrm>
          <a:prstGeom prst="wedgeRoundRectCallout">
            <a:avLst>
              <a:gd name="adj1" fmla="val -45231"/>
              <a:gd name="adj2" fmla="val 70657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 pseudo-terminal in openpty(3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0920" y="2565360"/>
            <a:ext cx="6696360" cy="18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547640" y="549360"/>
            <a:ext cx="1800" cy="5904000"/>
          </a:xfrm>
          <a:prstGeom prst="line">
            <a:avLst/>
          </a:prstGeom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47640" y="105264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79640" y="227664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sp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79640" y="263700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p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2997360"/>
            <a:ext cx="1152720" cy="7189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ster 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mas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067280" y="2997360"/>
            <a:ext cx="1152360" cy="7189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ave dev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sla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067280" y="4221000"/>
            <a:ext cx="1152360" cy="71928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l l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ipl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N_T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03640" y="2133720"/>
            <a:ext cx="1440" cy="86364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0" y="2133720"/>
            <a:ext cx="1440" cy="86364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635280" y="3357720"/>
            <a:ext cx="432000" cy="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0" y="3716280"/>
            <a:ext cx="1440" cy="50472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867280" y="1125360"/>
            <a:ext cx="863640" cy="43200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43280" y="692280"/>
            <a:ext cx="3457440" cy="433080"/>
          </a:xfrm>
          <a:custGeom>
            <a:avLst/>
            <a:gdLst/>
            <a:ahLst/>
            <a:rect l="l" t="t" r="r" b="b"/>
            <a:pathLst>
              <a:path w="2178" h="273">
                <a:moveTo>
                  <a:pt x="91" y="273"/>
                </a:moveTo>
                <a:cubicBezTo>
                  <a:pt x="45" y="182"/>
                  <a:pt x="0" y="91"/>
                  <a:pt x="136" y="46"/>
                </a:cubicBezTo>
                <a:cubicBezTo>
                  <a:pt x="272" y="1"/>
                  <a:pt x="606" y="0"/>
                  <a:pt x="908" y="0"/>
                </a:cubicBezTo>
                <a:cubicBezTo>
                  <a:pt x="1210" y="0"/>
                  <a:pt x="1739" y="1"/>
                  <a:pt x="1951" y="46"/>
                </a:cubicBezTo>
                <a:cubicBezTo>
                  <a:pt x="2163" y="91"/>
                  <a:pt x="2170" y="182"/>
                  <a:pt x="2178" y="273"/>
                </a:cubicBezTo>
              </a:path>
            </a:pathLst>
          </a:custGeom>
          <a:noFill/>
          <a:ln cap="sq"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443640" y="260280"/>
            <a:ext cx="1152720" cy="576360"/>
          </a:xfrm>
          <a:prstGeom prst="wedgeRoundRectCallout">
            <a:avLst>
              <a:gd name="adj1" fmla="val -73689"/>
              <a:gd name="adj2" fmla="val 45314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s as a child pro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1844640"/>
            <a:ext cx="792360" cy="21600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nt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80000" y="2276640"/>
            <a:ext cx="792360" cy="21564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e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12000" y="1557360"/>
            <a:ext cx="1440" cy="2872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12000" y="2060640"/>
            <a:ext cx="1440" cy="2160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80000" y="2708280"/>
            <a:ext cx="792360" cy="360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012000" y="2492280"/>
            <a:ext cx="1440" cy="2160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651640" y="4005360"/>
            <a:ext cx="2520720" cy="11509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 c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219640" y="4508640"/>
            <a:ext cx="43200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4360" y="4076640"/>
            <a:ext cx="792360" cy="28728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580000" y="3357720"/>
            <a:ext cx="2521080" cy="360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771640" y="1557360"/>
            <a:ext cx="144720" cy="287280"/>
          </a:xfrm>
          <a:prstGeom prst="line">
            <a:avLst/>
          </a:prstGeom>
          <a:ln cap="sq" w="38160">
            <a:solidFill>
              <a:srgbClr val="3333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5000760" y="1484280"/>
            <a:ext cx="869760" cy="360360"/>
          </a:xfrm>
          <a:prstGeom prst="line">
            <a:avLst/>
          </a:prstGeom>
          <a:ln cap="sq" w="38160">
            <a:solidFill>
              <a:srgbClr val="ff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012000" y="3068640"/>
            <a:ext cx="1440" cy="2890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012000" y="3716280"/>
            <a:ext cx="1440" cy="36036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093080" y="1844640"/>
            <a:ext cx="792000" cy="21600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an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093080" y="2276640"/>
            <a:ext cx="792000" cy="21564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32720" y="1341360"/>
            <a:ext cx="792000" cy="18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24720" y="1341360"/>
            <a:ext cx="1440" cy="5032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24720" y="2060640"/>
            <a:ext cx="1440" cy="21600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524720" y="2492280"/>
            <a:ext cx="1440" cy="21600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93080" y="2708280"/>
            <a:ext cx="792000" cy="360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524720" y="3068640"/>
            <a:ext cx="1440" cy="2890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24720" y="3716280"/>
            <a:ext cx="1440" cy="36036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164360" y="4076640"/>
            <a:ext cx="792360" cy="28728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71640" y="5734080"/>
            <a:ext cx="1368360" cy="214200"/>
          </a:xfrm>
          <a:prstGeom prst="leftRightArrow">
            <a:avLst>
              <a:gd name="adj1" fmla="val 50000"/>
              <a:gd name="adj2" fmla="val 127173"/>
            </a:avLst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71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ndow size 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67280" y="5661000"/>
            <a:ext cx="1152360" cy="214200"/>
          </a:xfrm>
          <a:prstGeom prst="leftRightArrow">
            <a:avLst>
              <a:gd name="adj1" fmla="val 50000"/>
              <a:gd name="adj2" fmla="val 107098"/>
            </a:avLst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95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ndow size 4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/>
  <dcterms:modified xsi:type="dcterms:W3CDTF">2015-11-30T16:28:07Z</dcterms:modified>
  <cp:revision>424</cp:revision>
  <dc:subject/>
  <dc:title>DDEのしくみ</dc:title>
</cp:coreProperties>
</file>