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76C9C-FAC4-49C4-AC40-F2934F1BC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C19DC-BEAC-46BE-B61C-3678828BA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EAB53-249F-4CE5-9046-EB00F1356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80A14-94DE-441C-A888-CE1626683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EC48F-3489-4903-9744-47AD092CB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905B2-2A5D-4416-9D03-47B803DF1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66736-76BE-4A93-81AC-65BE0AFBD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AD71A-1288-4005-BED6-940D3551A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22930-294D-4C8E-AFDD-582EFE182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87585-C108-44B8-9112-086CB8A9D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9C263-23AB-4C49-BC98-1052A02A4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0206F-00D8-4BA7-B820-2178FD0F4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26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CAE93A-6BD5-4AD6-9310-5BDDE03AB216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DE Flow 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50920" y="765000"/>
            <a:ext cx="1152360" cy="28764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ote Ho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25480" y="1052640"/>
            <a:ext cx="1440" cy="424800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122560" y="765000"/>
            <a:ext cx="2303280" cy="28764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 Ap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98920" y="1052640"/>
            <a:ext cx="1440" cy="410508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01840" y="1413000"/>
            <a:ext cx="1008360" cy="93636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 Buf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25480" y="1628640"/>
            <a:ext cx="1873440" cy="180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041480" y="1341360"/>
            <a:ext cx="140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 pack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698920" y="2133720"/>
            <a:ext cx="502920" cy="144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936720" y="2421000"/>
            <a:ext cx="1584360" cy="1827000"/>
          </a:xfrm>
          <a:prstGeom prst="wedgeRoundRectCallout">
            <a:avLst>
              <a:gd name="adj1" fmla="val 59611"/>
              <a:gd name="adj2" fmla="val -65263"/>
              <a:gd name="adj3" fmla="val 16667"/>
            </a:avLst>
          </a:prstGeom>
          <a:solidFill>
            <a:srgbClr val="ffff99"/>
          </a:solidFill>
          <a:ln cap="sq" w="9360">
            <a:solidFill>
              <a:srgbClr val="00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case of log collec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ceived data is stored i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DE ring buff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buffer is full, the oldest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ta will be overwritten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771640" y="2565360"/>
            <a:ext cx="648000" cy="503280"/>
          </a:xfrm>
          <a:custGeom>
            <a:avLst/>
            <a:gdLst>
              <a:gd name="textAreaLeft" fmla="*/ 86760 w 648000"/>
              <a:gd name="textAreaRight" fmla="*/ 561240 w 648000"/>
              <a:gd name="textAreaTop" fmla="*/ 87840 h 503280"/>
              <a:gd name="textAreaBottom" fmla="*/ 3650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19640" y="2637000"/>
            <a:ext cx="1079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XTYP_ADVRE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796000" y="765000"/>
            <a:ext cx="2736720" cy="28764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cro Ap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588000" y="1052640"/>
            <a:ext cx="1800" cy="410508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427640" y="1413000"/>
            <a:ext cx="144360" cy="936360"/>
          </a:xfrm>
          <a:custGeom>
            <a:avLst/>
            <a:gdLst>
              <a:gd name="textAreaLeft" fmla="*/ 0 w 144360"/>
              <a:gd name="textAreaRight" fmla="*/ 52200 w 144360"/>
              <a:gd name="textAreaTop" fmla="*/ 24120 h 936360"/>
              <a:gd name="textAreaBottom" fmla="*/ 91224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43280" y="1916280"/>
            <a:ext cx="1944720" cy="144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771640" y="3141720"/>
            <a:ext cx="1368720" cy="287280"/>
          </a:xfrm>
          <a:prstGeom prst="rect">
            <a:avLst/>
          </a:prstGeom>
          <a:noFill/>
          <a:ln cap="sq" w="9360">
            <a:solidFill>
              <a:srgbClr val="000000"/>
            </a:solidFill>
            <a:custDash>
              <a:ds d="100000" sp="1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vise Loo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3284640"/>
            <a:ext cx="792000" cy="144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4932360" y="1912680"/>
            <a:ext cx="1440" cy="137484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987640" y="3780000"/>
            <a:ext cx="1620720" cy="1116000"/>
          </a:xfrm>
          <a:prstGeom prst="wedgeRoundRectCallout">
            <a:avLst>
              <a:gd name="adj1" fmla="val -11152"/>
              <a:gd name="adj2" fmla="val -81245"/>
              <a:gd name="adj3" fmla="val 16667"/>
            </a:avLst>
          </a:prstGeom>
          <a:solidFill>
            <a:srgbClr val="ffff99"/>
          </a:solidFill>
          <a:ln cap="sq" w="9360">
            <a:solidFill>
              <a:srgbClr val="00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vise Loop contain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the data from DD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ffer sent to DDE cli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308720" y="1413000"/>
            <a:ext cx="1079640" cy="216036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 Buf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6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588000" y="2276640"/>
            <a:ext cx="720720" cy="144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076720" y="2565360"/>
            <a:ext cx="1368360" cy="934920"/>
          </a:xfrm>
          <a:prstGeom prst="wedgeRoundRectCallout">
            <a:avLst>
              <a:gd name="adj1" fmla="val 73087"/>
              <a:gd name="adj2" fmla="val -77333"/>
              <a:gd name="adj3" fmla="val 16667"/>
            </a:avLst>
          </a:prstGeom>
          <a:solidFill>
            <a:srgbClr val="ffff99"/>
          </a:solidFill>
          <a:ln cap="sq" w="9360">
            <a:solidFill>
              <a:srgbClr val="00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ta from DD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rver saved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ring buff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771640" y="5300640"/>
            <a:ext cx="3816360" cy="216000"/>
          </a:xfrm>
          <a:prstGeom prst="leftRightArrow">
            <a:avLst>
              <a:gd name="adj1" fmla="val 50000"/>
              <a:gd name="adj2" fmla="val 351730"/>
            </a:avLst>
          </a:prstGeom>
          <a:solidFill>
            <a:srgbClr val="0000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664000" y="5661000"/>
            <a:ext cx="4248000" cy="103500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macro command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setsync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is used,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DD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communic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tween Tera Term and Macro applications is synchronized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big amounts of data are sent by remote host, portions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ata may be lo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/>
  <dcterms:modified xsi:type="dcterms:W3CDTF">2015-11-29T15:50:52Z</dcterms:modified>
  <cp:revision>186</cp:revision>
  <dc:subject/>
  <dc:title>DDEのしくみ</dc:title>
</cp:coreProperties>
</file>