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E80-C7D8-4CDE-838C-99E14085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96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D39-1F81-492C-AE67-2A1FB853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2CE-31F3-4C14-A6C5-16A2EE49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302-72F6-4DFA-AAA1-3509B735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7FC-B0F1-4883-AAE0-AF6B0D68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F92-14DD-446F-A2C8-45E4B0FE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883-2011-46DB-9FD9-4F4E4942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8E1-85D6-4AFD-80DC-CA8D451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881-4821-45F1-BBF2-41907B49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562-4C41-441B-833E-009D824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F46-10F0-47FC-9A5C-57ED1229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995-0E01-435B-8A91-185E7DC0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51040"/>
            <a:ext cx="213192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51040"/>
            <a:ext cx="289404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228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A6B70-FE5C-4DC2-A3D9-2B2FD8FE8F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Setup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20348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833400"/>
            <a:ext cx="1690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65120" y="16318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hanging version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5120" y="198900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5120" y="234648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5120" y="263196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to exchange 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5120" y="30002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64000"/>
            <a:ext cx="1439640" cy="550800"/>
          </a:xfrm>
          <a:prstGeom prst="wedgeRoundRectCallout">
            <a:avLst>
              <a:gd name="adj1" fmla="val 70722"/>
              <a:gd name="adj2" fmla="val 11113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ener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65120" y="34290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5120" y="37861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5120" y="41562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65120" y="46562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65120" y="5013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 key gene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from here communication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ed with DH key(common ke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user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65120" y="55846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265120" y="595296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5227560"/>
            <a:ext cx="410364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3786120"/>
            <a:ext cx="1584360" cy="441360"/>
          </a:xfrm>
          <a:prstGeom prst="wedgeRoundRectCallout">
            <a:avLst>
              <a:gd name="adj1" fmla="val 79421"/>
              <a:gd name="adj2" fmla="val 2937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ecking “known_host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Setup Sequence(continu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19700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65120" y="1557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431640"/>
            <a:ext cx="1548000" cy="863640"/>
          </a:xfrm>
          <a:prstGeom prst="wedgeRoundRectCallout">
            <a:avLst>
              <a:gd name="adj1" fmla="val 77981"/>
              <a:gd name="adj2" fmla="val 39000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ing list of supported  authentication methods. Method is set to “none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98612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user name and pass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65120" y="24145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cessful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285120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ession “session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65120" y="32083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28472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questing shell “pty-req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5120" y="46544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5011560"/>
            <a:ext cx="316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hell “shell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5120" y="54403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SH server's window siz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5120" y="57974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5120" y="6237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hell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ssed to Tera Term Core. Tera Term then waits for recv() to return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ith enabled CheckAuthListFir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f disabled, user will need to choose correct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2703600"/>
            <a:ext cx="1800360" cy="392040"/>
          </a:xfrm>
          <a:prstGeom prst="wedgeRoundRectCallout">
            <a:avLst>
              <a:gd name="adj1" fmla="val -59074"/>
              <a:gd name="adj2" fmla="val -18904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case of password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3570120"/>
            <a:ext cx="316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ending agent request  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65120" y="3924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3959280"/>
            <a:ext cx="1871640" cy="479520"/>
          </a:xfrm>
          <a:prstGeom prst="wedgeRoundRectCallout">
            <a:avLst>
              <a:gd name="adj1" fmla="val -57708"/>
              <a:gd name="adj2" fmla="val -9439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ith valid ForwardAg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1655640"/>
            <a:ext cx="2411280" cy="863640"/>
          </a:xfrm>
          <a:prstGeom prst="wedgeRoundRectCallout">
            <a:avLst>
              <a:gd name="adj1" fmla="val -89074"/>
              <a:gd name="adj2" fmla="val -6290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list of supported authentication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 is returned, but not added to the server's log 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Clos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120348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65120" y="16318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 out from the sh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5120" y="20606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265120" y="256068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65120" y="30002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losing TCP session and notifying Tera Term Core that session was clo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5:31:14Z</dcterms:modified>
  <cp:revision>362</cp:revision>
  <dc:subject/>
  <dc:title>DDEのしくみ</dc:title>
</cp:coreProperties>
</file>