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C4C5-0EF7-4FD2-B621-30758DEE1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CC91-A65D-4034-91CA-A8A6A4F8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DD4C-13B7-4F86-85C2-D40CB87A5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B57F-1C93-48FE-AB9F-2A5A3533F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B741-DDA6-46BA-8C8A-8B73110D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259A-8DD8-4929-B8B2-B52FCE41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7E20-67D0-4015-9FEE-E18C6D35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89AF-9184-4F82-9681-D4180FEA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389B-B299-4434-B04E-83C0F7E2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EE55-BB27-4779-8BFD-D5AD1722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1918-C2EA-4D81-9421-82F0F5C2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F6DF-A437-4D8D-8A4E-13E1C9DC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020444-DC2A-4F84-A9D9-E87C494EBB7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16080" y="1374840"/>
            <a:ext cx="1828800" cy="396216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ra Ter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Arial"/>
              </a:rPr>
              <a:t>DDE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16680" y="1374840"/>
            <a:ext cx="1752480" cy="403848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Arial"/>
              </a:rPr>
              <a:t>DDE 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16080" y="2670120"/>
            <a:ext cx="1828800" cy="160020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4880" y="1943280"/>
            <a:ext cx="29718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nnect to DDE Server (CONNEC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63840" y="307800"/>
            <a:ext cx="23097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/>
          <p:nvPr/>
        </p:nvCxnSpPr>
        <p:spPr>
          <a:xfrm>
            <a:off x="3044520" y="1755360"/>
            <a:ext cx="2972520" cy="39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52" name=""/>
          <p:cNvCxnSpPr/>
          <p:nvPr/>
        </p:nvCxnSpPr>
        <p:spPr>
          <a:xfrm flipH="1">
            <a:off x="3044160" y="2212560"/>
            <a:ext cx="2972520" cy="39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53" name=""/>
          <p:cNvCxnSpPr/>
          <p:nvPr/>
        </p:nvCxnSpPr>
        <p:spPr>
          <a:xfrm flipH="1">
            <a:off x="3044160" y="2669760"/>
            <a:ext cx="2972520" cy="39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54" name=""/>
          <p:cNvCxnSpPr/>
          <p:nvPr/>
        </p:nvCxnSpPr>
        <p:spPr>
          <a:xfrm flipH="1">
            <a:off x="3044160" y="3126960"/>
            <a:ext cx="2972520" cy="39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55" name=""/>
          <p:cNvCxnSpPr/>
          <p:nvPr/>
        </p:nvCxnSpPr>
        <p:spPr>
          <a:xfrm>
            <a:off x="3044520" y="3584160"/>
            <a:ext cx="2972520" cy="39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56" name=""/>
          <p:cNvCxnSpPr/>
          <p:nvPr/>
        </p:nvCxnSpPr>
        <p:spPr>
          <a:xfrm flipH="1">
            <a:off x="3044160" y="4041360"/>
            <a:ext cx="2972520" cy="39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57" name=""/>
          <p:cNvCxnSpPr/>
          <p:nvPr/>
        </p:nvCxnSpPr>
        <p:spPr>
          <a:xfrm flipH="1">
            <a:off x="3044160" y="4498560"/>
            <a:ext cx="2972520" cy="39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58" name=""/>
          <p:cNvCxnSpPr/>
          <p:nvPr/>
        </p:nvCxnSpPr>
        <p:spPr>
          <a:xfrm>
            <a:off x="3044520" y="4955760"/>
            <a:ext cx="2972520" cy="39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453960" y="2822400"/>
            <a:ext cx="609840" cy="685800"/>
          </a:xfrm>
          <a:custGeom>
            <a:avLst/>
            <a:gdLst/>
            <a:ahLst/>
            <a:rect l="l" t="t" r="r" b="b"/>
            <a:pathLst>
              <a:path stroke="0" w="110478853" h="110482942">
                <a:moveTo>
                  <a:pt x="0" y="-750"/>
                </a:moveTo>
                <a:lnTo>
                  <a:pt x="1693" y="-750"/>
                </a:lnTo>
                <a:lnTo>
                  <a:pt x="180" y="0"/>
                </a:lnTo>
                <a:lnTo>
                  <a:pt x="331" y="-69"/>
                </a:lnTo>
                <a:lnTo>
                  <a:pt x="1693" y="543"/>
                </a:lnTo>
                <a:lnTo>
                  <a:pt x="331" y="2655"/>
                </a:lnTo>
                <a:lnTo>
                  <a:pt x="331" y="3336"/>
                </a:lnTo>
                <a:close/>
              </a:path>
              <a:path stroke="0" w="110478853" h="110482942">
                <a:moveTo>
                  <a:pt x="1693" y="-750"/>
                </a:moveTo>
                <a:lnTo>
                  <a:pt x="2" y="0"/>
                </a:lnTo>
                <a:lnTo>
                  <a:pt x="1693" y="4086"/>
                </a:lnTo>
                <a:close/>
                <a:lnTo>
                  <a:pt x="1693" y="-750"/>
                </a:lnTo>
              </a:path>
              <a:path w="110478853" h="110482942">
                <a:moveTo>
                  <a:pt x="270" y="-110478846"/>
                </a:moveTo>
                <a:lnTo>
                  <a:pt x="1693" y="-750"/>
                </a:lnTo>
                <a:lnTo>
                  <a:pt x="110478853" y="-110478856"/>
                </a:lnTo>
                <a:lnTo>
                  <a:pt x="0" y="-750"/>
                </a:lnTo>
                <a:lnTo>
                  <a:pt x="1693" y="-750"/>
                </a:lnTo>
                <a:lnTo>
                  <a:pt x="180" y="0"/>
                </a:lnTo>
                <a:lnTo>
                  <a:pt x="331" y="-69"/>
                </a:lnTo>
                <a:lnTo>
                  <a:pt x="1693" y="543"/>
                </a:lnTo>
                <a:lnTo>
                  <a:pt x="331" y="2655"/>
                </a:lnTo>
                <a:lnTo>
                  <a:pt x="331" y="3336"/>
                </a:lnTo>
                <a:lnTo>
                  <a:pt x="1693" y="-750"/>
                </a:lnTo>
              </a:path>
            </a:pathLst>
          </a:custGeom>
          <a:solidFill>
            <a:srgbClr val="4f81bd"/>
          </a:solidFill>
          <a:ln w="1908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4880" y="4676760"/>
            <a:ext cx="29718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Connection (DISCONNEC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4880" y="2847960"/>
            <a:ext cx="29718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nd Data (ADVSTA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4880" y="3305160"/>
            <a:ext cx="29718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ceive Data (ADV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4880" y="3762360"/>
            <a:ext cx="29718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nd Data (POK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4880" y="4219560"/>
            <a:ext cx="29718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Connection (DISCONNEC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2390760"/>
            <a:ext cx="29718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nd Request (EXECU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 rot="10800000">
            <a:off x="6245280" y="3130920"/>
            <a:ext cx="1371600" cy="652680"/>
          </a:xfrm>
          <a:custGeom>
            <a:avLst/>
            <a:gdLst/>
            <a:ahLst/>
            <a:rect l="l" t="t" r="r" b="b"/>
            <a:pathLst>
              <a:path w="11023" h="3756">
                <a:moveTo>
                  <a:pt x="0" y="-972"/>
                </a:moveTo>
                <a:lnTo>
                  <a:pt x="-972" y="-972"/>
                </a:lnTo>
                <a:lnTo>
                  <a:pt x="180" y="90"/>
                </a:lnTo>
                <a:lnTo>
                  <a:pt x="2223" y="0"/>
                </a:lnTo>
                <a:lnTo>
                  <a:pt x="2223" y="0"/>
                </a:lnTo>
                <a:lnTo>
                  <a:pt x="3175" y="0"/>
                </a:lnTo>
                <a:lnTo>
                  <a:pt x="4782" y="0"/>
                </a:lnTo>
                <a:lnTo>
                  <a:pt x="-972" y="-972"/>
                </a:lnTo>
                <a:lnTo>
                  <a:pt x="270" y="90"/>
                </a:lnTo>
                <a:lnTo>
                  <a:pt x="3810" y="302"/>
                </a:lnTo>
                <a:lnTo>
                  <a:pt x="10051" y="-270"/>
                </a:lnTo>
                <a:lnTo>
                  <a:pt x="3810" y="755"/>
                </a:lnTo>
                <a:lnTo>
                  <a:pt x="3810" y="2784"/>
                </a:lnTo>
                <a:lnTo>
                  <a:pt x="-972" y="-972"/>
                </a:lnTo>
                <a:lnTo>
                  <a:pt x="1" y="90"/>
                </a:lnTo>
                <a:lnTo>
                  <a:pt x="3175" y="1812"/>
                </a:lnTo>
                <a:lnTo>
                  <a:pt x="2223" y="1812"/>
                </a:lnTo>
                <a:lnTo>
                  <a:pt x="2223" y="1812"/>
                </a:lnTo>
                <a:lnTo>
                  <a:pt x="-972" y="1812"/>
                </a:lnTo>
                <a:lnTo>
                  <a:pt x="-972" y="-972"/>
                </a:lnTo>
                <a:close/>
              </a:path>
            </a:pathLst>
          </a:custGeom>
          <a:noFill/>
          <a:ln w="12600">
            <a:solidFill>
              <a:srgbClr val="3a5f8b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03440" y="2746440"/>
            <a:ext cx="10540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dvise 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49400" y="3544200"/>
            <a:ext cx="985680" cy="452520"/>
            <a:chOff x="149400" y="3544200"/>
            <a:chExt cx="985680" cy="452520"/>
          </a:xfrm>
        </p:grpSpPr>
        <p:sp>
          <p:nvSpPr>
            <p:cNvPr id="69" name=""/>
            <p:cNvSpPr/>
            <p:nvPr/>
          </p:nvSpPr>
          <p:spPr>
            <a:xfrm flipH="1" flipV="1" rot="10800000">
              <a:off x="149400" y="3543840"/>
              <a:ext cx="985680" cy="452520"/>
            </a:xfrm>
            <a:custGeom>
              <a:avLst/>
              <a:gdLst/>
              <a:ahLst/>
              <a:rect l="l" t="t" r="r" b="b"/>
              <a:pathLst>
                <a:path w="4114" h="4848">
                  <a:moveTo>
                    <a:pt x="0" y="-681"/>
                  </a:moveTo>
                  <a:lnTo>
                    <a:pt x="-681" y="-681"/>
                  </a:lnTo>
                  <a:lnTo>
                    <a:pt x="180" y="90"/>
                  </a:lnTo>
                  <a:lnTo>
                    <a:pt x="1605" y="0"/>
                  </a:lnTo>
                  <a:lnTo>
                    <a:pt x="1605" y="0"/>
                  </a:lnTo>
                  <a:lnTo>
                    <a:pt x="2293" y="0"/>
                  </a:lnTo>
                  <a:lnTo>
                    <a:pt x="3433" y="0"/>
                  </a:lnTo>
                  <a:lnTo>
                    <a:pt x="-681" y="-681"/>
                  </a:lnTo>
                  <a:lnTo>
                    <a:pt x="270" y="90"/>
                  </a:lnTo>
                  <a:lnTo>
                    <a:pt x="2752" y="741"/>
                  </a:lnTo>
                  <a:lnTo>
                    <a:pt x="2752" y="741"/>
                  </a:lnTo>
                  <a:lnTo>
                    <a:pt x="2752" y="1058"/>
                  </a:lnTo>
                  <a:lnTo>
                    <a:pt x="2752" y="1951"/>
                  </a:lnTo>
                  <a:lnTo>
                    <a:pt x="-681" y="-681"/>
                  </a:lnTo>
                  <a:lnTo>
                    <a:pt x="1" y="90"/>
                  </a:lnTo>
                  <a:lnTo>
                    <a:pt x="2293" y="1270"/>
                  </a:lnTo>
                  <a:lnTo>
                    <a:pt x="1814" y="4167"/>
                  </a:lnTo>
                  <a:lnTo>
                    <a:pt x="1605" y="1270"/>
                  </a:lnTo>
                  <a:lnTo>
                    <a:pt x="-681" y="1270"/>
                  </a:lnTo>
                  <a:lnTo>
                    <a:pt x="-681" y="-681"/>
                  </a:lnTo>
                  <a:close/>
                </a:path>
              </a:pathLst>
            </a:custGeom>
            <a:noFill/>
            <a:ln w="12600">
              <a:solidFill>
                <a:srgbClr val="3a5f8b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960" y="3619440"/>
              <a:ext cx="79956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DVREQ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216080" y="1069920"/>
            <a:ext cx="18288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HWND HVT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 rot="10800000">
            <a:off x="3121200" y="914760"/>
            <a:ext cx="1752480" cy="304920"/>
          </a:xfrm>
          <a:custGeom>
            <a:avLst/>
            <a:gdLst/>
            <a:ahLst/>
            <a:rect l="l" t="t" r="r" b="b"/>
            <a:pathLst>
              <a:path w="5776" h="2211">
                <a:moveTo>
                  <a:pt x="0" y="-454"/>
                </a:moveTo>
                <a:lnTo>
                  <a:pt x="-454" y="-454"/>
                </a:lnTo>
                <a:lnTo>
                  <a:pt x="180" y="90"/>
                </a:lnTo>
                <a:lnTo>
                  <a:pt x="2840" y="0"/>
                </a:lnTo>
                <a:lnTo>
                  <a:pt x="2840" y="0"/>
                </a:lnTo>
                <a:lnTo>
                  <a:pt x="4057" y="0"/>
                </a:lnTo>
                <a:lnTo>
                  <a:pt x="5322" y="0"/>
                </a:lnTo>
                <a:lnTo>
                  <a:pt x="-454" y="-454"/>
                </a:lnTo>
                <a:lnTo>
                  <a:pt x="270" y="90"/>
                </a:lnTo>
                <a:lnTo>
                  <a:pt x="4868" y="494"/>
                </a:lnTo>
                <a:lnTo>
                  <a:pt x="4868" y="494"/>
                </a:lnTo>
                <a:lnTo>
                  <a:pt x="4868" y="706"/>
                </a:lnTo>
                <a:lnTo>
                  <a:pt x="4868" y="1301"/>
                </a:lnTo>
                <a:lnTo>
                  <a:pt x="-454" y="-454"/>
                </a:lnTo>
                <a:lnTo>
                  <a:pt x="1" y="90"/>
                </a:lnTo>
                <a:lnTo>
                  <a:pt x="4057" y="847"/>
                </a:lnTo>
                <a:lnTo>
                  <a:pt x="4264" y="1757"/>
                </a:lnTo>
                <a:lnTo>
                  <a:pt x="2840" y="847"/>
                </a:lnTo>
                <a:lnTo>
                  <a:pt x="-454" y="847"/>
                </a:lnTo>
                <a:lnTo>
                  <a:pt x="-454" y="-454"/>
                </a:lnTo>
                <a:close/>
              </a:path>
            </a:pathLst>
          </a:custGeom>
          <a:noFill/>
          <a:ln w="12600">
            <a:solidFill>
              <a:srgbClr val="3a5f8b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7240" y="914400"/>
            <a:ext cx="1837440" cy="303480"/>
          </a:xfrm>
          <a:prstGeom prst="rect">
            <a:avLst/>
          </a:prstGeom>
          <a:noFill/>
          <a:ln w="9360">
            <a:solidFill>
              <a:srgbClr val="3465a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enerating topic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4880" y="1488960"/>
            <a:ext cx="29718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tartup: TTPMACRO /D=000208D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/>
          <p:nvPr/>
        </p:nvCxnSpPr>
        <p:spPr>
          <a:xfrm flipV="1">
            <a:off x="2739600" y="1066680"/>
            <a:ext cx="384840" cy="15588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76" name=""/>
          <p:cNvCxnSpPr/>
          <p:nvPr/>
        </p:nvCxnSpPr>
        <p:spPr>
          <a:xfrm>
            <a:off x="4873680" y="1222200"/>
            <a:ext cx="381600" cy="30888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grpSp>
        <p:nvGrpSpPr>
          <p:cNvPr id="77" name=""/>
          <p:cNvGrpSpPr/>
          <p:nvPr/>
        </p:nvGrpSpPr>
        <p:grpSpPr>
          <a:xfrm>
            <a:off x="1903320" y="5595120"/>
            <a:ext cx="5222880" cy="990360"/>
            <a:chOff x="1903320" y="5595120"/>
            <a:chExt cx="5222880" cy="990360"/>
          </a:xfrm>
        </p:grpSpPr>
        <p:sp>
          <p:nvSpPr>
            <p:cNvPr id="78" name=""/>
            <p:cNvSpPr/>
            <p:nvPr/>
          </p:nvSpPr>
          <p:spPr>
            <a:xfrm flipH="1" flipV="1" rot="10800000">
              <a:off x="1903320" y="5594760"/>
              <a:ext cx="5222880" cy="990360"/>
            </a:xfrm>
            <a:custGeom>
              <a:avLst/>
              <a:gdLst/>
              <a:ahLst/>
              <a:rect l="l" t="t" r="r" b="b"/>
              <a:pathLst>
                <a:path w="16059" h="6630">
                  <a:moveTo>
                    <a:pt x="0" y="-1362"/>
                  </a:moveTo>
                  <a:lnTo>
                    <a:pt x="-1362" y="-1362"/>
                  </a:lnTo>
                  <a:lnTo>
                    <a:pt x="180" y="90"/>
                  </a:lnTo>
                  <a:lnTo>
                    <a:pt x="7779" y="0"/>
                  </a:lnTo>
                  <a:lnTo>
                    <a:pt x="7779" y="0"/>
                  </a:lnTo>
                  <a:lnTo>
                    <a:pt x="11113" y="0"/>
                  </a:lnTo>
                  <a:lnTo>
                    <a:pt x="14697" y="0"/>
                  </a:lnTo>
                  <a:lnTo>
                    <a:pt x="-1362" y="-1362"/>
                  </a:lnTo>
                  <a:lnTo>
                    <a:pt x="270" y="90"/>
                  </a:lnTo>
                  <a:lnTo>
                    <a:pt x="13335" y="1482"/>
                  </a:lnTo>
                  <a:lnTo>
                    <a:pt x="13335" y="1482"/>
                  </a:lnTo>
                  <a:lnTo>
                    <a:pt x="13335" y="2117"/>
                  </a:lnTo>
                  <a:lnTo>
                    <a:pt x="13335" y="3902"/>
                  </a:lnTo>
                  <a:lnTo>
                    <a:pt x="-1362" y="-1362"/>
                  </a:lnTo>
                  <a:lnTo>
                    <a:pt x="1" y="90"/>
                  </a:lnTo>
                  <a:lnTo>
                    <a:pt x="11113" y="2540"/>
                  </a:lnTo>
                  <a:lnTo>
                    <a:pt x="11680" y="5268"/>
                  </a:lnTo>
                  <a:lnTo>
                    <a:pt x="7779" y="2540"/>
                  </a:lnTo>
                  <a:lnTo>
                    <a:pt x="-1362" y="2540"/>
                  </a:lnTo>
                  <a:lnTo>
                    <a:pt x="-1362" y="-1362"/>
                  </a:lnTo>
                  <a:close/>
                </a:path>
              </a:pathLst>
            </a:custGeom>
            <a:solidFill>
              <a:srgbClr val="ffff99"/>
            </a:solidFill>
            <a:ln w="12600">
              <a:solidFill>
                <a:srgbClr val="3a5f8b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86120" y="5697360"/>
              <a:ext cx="5057640" cy="7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DD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is used in peer-to-peer client-server communication mod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ession identification is combination of service name “</a:t>
              </a: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TERATERM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”  and a topic name, which can be any string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216000" y="2808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08720" y="3130560"/>
            <a:ext cx="1208160" cy="901800"/>
          </a:xfrm>
          <a:prstGeom prst="wedgeRoundRectCallout">
            <a:avLst>
              <a:gd name="adj1" fmla="val -73009"/>
              <a:gd name="adj2" fmla="val -643"/>
              <a:gd name="adj3" fmla="val 16667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ceiving data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rom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/>
  <dcterms:modified xsi:type="dcterms:W3CDTF">2015-11-29T06:43:08Z</dcterms:modified>
  <cp:revision>55</cp:revision>
  <dc:subject/>
  <dc:title>DDEのしくみ</dc:title>
</cp:coreProperties>
</file>