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E85-4058-4213-8FC6-573EE42C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06D-B1AE-464F-A228-71963557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AE0-133A-4890-B49A-F862CE05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FEA-D07D-45A4-90E6-1B8C9737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2F4-47B5-4AC5-AF60-14F2953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2DC-4E33-4106-B0AB-C254E2B4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CAD-96B8-4D5E-B9DF-D5BDFBC2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88D-D188-49E3-94F3-1EA5E966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363-AF09-42E1-89CF-118FB20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3EA-FA5E-4165-9B21-96A801F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EFD-9391-4CDA-899C-D6E9CF9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243-BC13-4F4F-AEEE-9F796C28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CB2FE-DD37-4930-8185-4F53DBD47F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stablishing SSH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04640"/>
            <a:ext cx="1440" cy="6264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125360"/>
            <a:ext cx="504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940360" y="549360"/>
          <a:ext cx="2666880" cy="1358280"/>
        </p:xfrm>
        <a:graphic>
          <a:graphicData uri="http://schemas.openxmlformats.org/drawingml/2006/table">
            <a:tbl>
              <a:tblPr/>
              <a:tblGrid>
                <a:gridCol w="1224720"/>
                <a:gridCol w="1442160"/>
              </a:tblGrid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Dest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27280" y="692280"/>
            <a:ext cx="757440" cy="576000"/>
          </a:xfrm>
          <a:prstGeom prst="wedgeRoundRectCallout">
            <a:avLst>
              <a:gd name="adj1" fmla="val -74532"/>
              <a:gd name="adj2" fmla="val 2763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ocket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68280"/>
            <a:ext cx="180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133720"/>
            <a:ext cx="1800" cy="358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916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establishing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2708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2303640"/>
            <a:ext cx="2160720" cy="693720"/>
          </a:xfrm>
          <a:prstGeom prst="wedgeRoundRectCallout">
            <a:avLst>
              <a:gd name="adj1" fmla="val -55495"/>
              <a:gd name="adj2" fmla="val 547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s to server. If successful, FD_CONNECT message is sent to 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57336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414972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3141720"/>
            <a:ext cx="1549440" cy="574560"/>
          </a:xfrm>
          <a:prstGeom prst="wedgeRoundRectCallout">
            <a:avLst>
              <a:gd name="adj1" fmla="val -95314"/>
              <a:gd name="adj2" fmla="val 8806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er FD_READ | FD_OOB | FD_CLO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149720"/>
            <a:ext cx="431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4149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user authentication dialo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941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66100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623736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581360"/>
            <a:ext cx="1872000" cy="746280"/>
          </a:xfrm>
          <a:prstGeom prst="wedgeRoundRectCallout">
            <a:avLst>
              <a:gd name="adj1" fmla="val -80009"/>
              <a:gd name="adj2" fmla="val -20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ning of communication ”Protocol Version Exchange” is sent by the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5832360"/>
            <a:ext cx="2089440" cy="863640"/>
          </a:xfrm>
          <a:prstGeom prst="wedgeRoundRectCallout">
            <a:avLst>
              <a:gd name="adj1" fmla="val -61851"/>
              <a:gd name="adj2" fmla="val -1347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validating the server version information, client(TTSSH) version information is sent to the server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5:47Z</dcterms:modified>
  <cp:revision>242</cp:revision>
  <dc:subject/>
  <dc:title>DDEのしくみ</dc:title>
</cp:coreProperties>
</file>