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291F-0D13-4446-971B-1566F4EA0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66E0-14C2-4A08-A524-7DDA7B5C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6105-5626-4C0D-95E2-A1FFA5ED1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ADC3-E749-4795-B1AC-5EB8909F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D1C8-9C26-47A0-89A6-93D5ECFC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038A-AF88-4544-BC67-AEFFA54A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7BF3-B17D-4D85-8ACB-76D3DC68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7854-21ED-4E09-B1D7-0A855A9C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412D-C569-4269-A454-39EBD3BC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7834-C2D6-4D89-9705-D00E1120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CA92-ED2C-4B3D-A997-D8A33A79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C936-A6F2-42F6-9794-1277EAEB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80739-5ABC-4A3D-ADD6-044491957E4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 Authentication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68360" y="1268280"/>
            <a:ext cx="1800" cy="1729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35640" y="1268280"/>
            <a:ext cx="1440" cy="1729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68360" y="1557360"/>
            <a:ext cx="31672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265120" y="191772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a passwor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5120" y="227664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5120" y="266076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2349360"/>
            <a:ext cx="1440000" cy="530280"/>
          </a:xfrm>
          <a:prstGeom prst="wedgeRoundRectCallout">
            <a:avLst>
              <a:gd name="adj1" fmla="val 80638"/>
              <a:gd name="adj2" fmla="val 8236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firmation of successful authenti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invi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68360" y="4897440"/>
            <a:ext cx="31672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5120" y="525780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5120" y="561672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65120" y="600084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4508640"/>
            <a:ext cx="1800" cy="18000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 Authentication(public 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4508640"/>
            <a:ext cx="1440" cy="18000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public ke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96000" y="4579920"/>
            <a:ext cx="1836720" cy="361800"/>
          </a:xfrm>
          <a:prstGeom prst="wedgeRoundRectCallout">
            <a:avLst>
              <a:gd name="adj1" fmla="val -69541"/>
              <a:gd name="adj2" fmla="val 42046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atching authorized_key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300640"/>
            <a:ext cx="1584360" cy="603360"/>
          </a:xfrm>
          <a:prstGeom prst="wedgeRoundRectCallout">
            <a:avLst>
              <a:gd name="adj1" fmla="val 68421"/>
              <a:gd name="adj2" fmla="val 1814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signature generated using private ke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rifying the signa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 Authentication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1052640"/>
            <a:ext cx="1440" cy="5545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93080" y="1052640"/>
            <a:ext cx="1440" cy="5545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63640" y="1052640"/>
            <a:ext cx="1800" cy="5545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00720" y="3013200"/>
            <a:ext cx="258912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497480" y="3373560"/>
            <a:ext cx="25956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497480" y="5776920"/>
            <a:ext cx="25956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497480" y="6161040"/>
            <a:ext cx="25956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0360" y="5605560"/>
            <a:ext cx="1440000" cy="585720"/>
          </a:xfrm>
          <a:prstGeom prst="wedgeRoundRectCallout">
            <a:avLst>
              <a:gd name="adj1" fmla="val 75342"/>
              <a:gd name="adj2" fmla="val -19449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warding signature generated using private ke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atch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rifying the signa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63640" y="2104920"/>
            <a:ext cx="273708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760400" y="1663560"/>
            <a:ext cx="27432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500120"/>
            <a:ext cx="1296720" cy="515880"/>
          </a:xfrm>
          <a:prstGeom prst="wedgeRoundRectCallout">
            <a:avLst>
              <a:gd name="adj1" fmla="val 65763"/>
              <a:gd name="adj2" fmla="val 65199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all registered public key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ep sending public keys until PK_OK is recei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63640" y="5057640"/>
            <a:ext cx="273708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760400" y="4616280"/>
            <a:ext cx="27432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ing public ke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16360" y="3887640"/>
            <a:ext cx="1150920" cy="792360"/>
          </a:xfrm>
          <a:prstGeom prst="wedgeRoundRectCallout">
            <a:avLst>
              <a:gd name="adj1" fmla="val -70134"/>
              <a:gd name="adj2" fmla="val 42319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signing reque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4452840"/>
            <a:ext cx="1296720" cy="587520"/>
          </a:xfrm>
          <a:prstGeom prst="wedgeRoundRectCallout">
            <a:avLst>
              <a:gd name="adj1" fmla="val 65763"/>
              <a:gd name="adj2" fmla="val 51222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signature generated using private ke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public ke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/>
  <dcterms:modified xsi:type="dcterms:W3CDTF">2015-12-01T14:52:57Z</dcterms:modified>
  <cp:revision>368</cp:revision>
  <dc:subject/>
  <dc:title>DDEのしくみ</dc:title>
</cp:coreProperties>
</file>