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615-13BC-445F-853B-37027358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6CA-3269-4FE1-A735-4B2EDD38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772-35DD-44F7-BCC3-C1A6047B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8B4-6650-4F29-B997-2E941823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C0E-95D5-44B0-8F7B-8B5AA39F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38A-10D4-463C-BCDF-9FE66CC8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363-D33E-4939-904C-75C868BE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912-0728-4761-8C4A-411BB814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5C7-F196-4357-BFC8-F3ACA6BE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B4A-CDBD-44DF-A1AE-F3971619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D55-393F-4E57-B728-A38CE3F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751-D772-4DDA-8D7F-48AE82EA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0625-0DCF-49A2-B436-EDDCD6DF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53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4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61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62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63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67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68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69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70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71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パディングサイ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73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5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6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78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79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0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81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2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5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86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87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8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9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0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91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2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3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4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5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96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97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4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3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Rectangle 38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44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5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7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8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0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1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3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4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5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6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7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0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 negeta</cp:lastModifiedBy>
  <dcterms:modified xsi:type="dcterms:W3CDTF">2018-01-27T04:07:34Z</dcterms:modified>
  <cp:revision>277</cp:revision>
  <dc:subject/>
  <dc:title>DDEのしくみ</dc:title>
</cp:coreProperties>
</file>