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136-8BC7-496D-B612-9042685A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41B-107A-46B9-A4C1-2AEA6B1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B08-3ADF-47C8-BFC7-A675ECC3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3BE-1A16-4C66-93C2-97AB36F2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88F-CA45-466B-B4D8-4C0D08AD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839-7BF3-4859-B64D-D2832EE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E38-A589-4DBE-9BDA-C86D955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4A4-3BCB-4B00-859D-5A4E3C6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E24-F603-48C9-978E-E874A89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EBF-883A-4C4B-906D-DA213CD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286-287F-4330-B48A-C2C66759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1EB-A1C6-487B-BDAA-F3F791E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997744-3115-4C08-AF41-D652DC2B14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1440" cy="1728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280" y="5373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06560" y="537372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0840"/>
            <a:ext cx="1440" cy="291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99160" y="40402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2840" y="5869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6040" y="40402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6040" y="46497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6040" y="526104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99160" y="48783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040" y="586908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81168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0560" y="5564160"/>
            <a:ext cx="220968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0560" y="381168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2560" y="381168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0240" y="556416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0240" y="6478560"/>
            <a:ext cx="236232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1000" y="452268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7960" y="41925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5160" y="434484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5160" y="54878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5160" y="48783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8160" y="449748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7960" y="4344840"/>
            <a:ext cx="457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0-03T17:36:28Z</dcterms:modified>
  <cp:revision>66</cp:revision>
  <dc:subject/>
  <dc:title>TeraTermモジュール構成</dc:title>
</cp:coreProperties>
</file>