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3D86-3889-4FC5-95A0-994155F1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4EB0-BAD6-4D2C-81FF-DA91DA74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68DA-E550-4EFE-B286-7E801435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3E1A-D139-457C-AB3C-20D250B6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61F9-3CAD-49E7-8F3E-52CEC2C0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AF78-DB37-47A5-AF53-7C01A310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B656-1080-416A-BDDE-F9894F81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689E-59DB-4BA9-B6E3-60AFEC61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2F95-406F-47BC-A0AE-BFD6429D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B8BA-96CE-4D60-B307-AD6E1BF0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A667-29F2-4FF0-9F0B-BDA15BF9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0138-B965-4F49-8CE2-3126B6A0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95FB1-2572-45AA-8535-B274A50A125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seudo-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1341360"/>
            <a:ext cx="122544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32000" y="1341360"/>
            <a:ext cx="28764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19640" y="1341360"/>
            <a:ext cx="1440" cy="503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1557360"/>
            <a:ext cx="108108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00720" y="1557360"/>
            <a:ext cx="144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72000" y="863640"/>
            <a:ext cx="1403280" cy="576360"/>
          </a:xfrm>
          <a:prstGeom prst="wedgeRoundRectCallout">
            <a:avLst>
              <a:gd name="adj1" fmla="val -45231"/>
              <a:gd name="adj2" fmla="val 70657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 pseudo-terminal in openpty(3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0920" y="2565360"/>
            <a:ext cx="669636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549360"/>
            <a:ext cx="1800" cy="59040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ter 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ave de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l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2133720"/>
            <a:ext cx="1440" cy="8636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2133720"/>
            <a:ext cx="1440" cy="8636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35280" y="3357720"/>
            <a:ext cx="432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16280"/>
            <a:ext cx="1440" cy="5047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s as a child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12000" y="1557360"/>
            <a:ext cx="144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2000" y="2060640"/>
            <a:ext cx="1440" cy="2160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2000" y="2492280"/>
            <a:ext cx="1440" cy="2160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19640" y="4508640"/>
            <a:ext cx="432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cap="sq"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000760" y="1484280"/>
            <a:ext cx="869760" cy="36036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12000" y="3068640"/>
            <a:ext cx="1440" cy="289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3716280"/>
            <a:ext cx="1440" cy="360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2720" y="1341360"/>
            <a:ext cx="79200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1341360"/>
            <a:ext cx="1440" cy="503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2060640"/>
            <a:ext cx="1440" cy="2160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24720" y="2492280"/>
            <a:ext cx="1440" cy="2160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24720" y="3068640"/>
            <a:ext cx="1440" cy="289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24720" y="3716280"/>
            <a:ext cx="1440" cy="36036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dow size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dow size 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1-30T16:28:07Z</dcterms:modified>
  <cp:revision>424</cp:revision>
  <dc:subject/>
  <dc:title>DDEのしくみ</dc:title>
</cp:coreProperties>
</file>