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17C6-B427-480B-BE22-3C58EB7A5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E95B-3078-4A7B-8421-D9A8BFA9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DBA9-9FA8-4266-B376-97720B5CD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950C-84E3-4B5A-BD90-9A54BC5C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7E8A-1DF3-4F0F-89BD-EE491087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B9CE-539A-4E54-8980-B938AF76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52E0-C64B-4DF6-BAE4-76A186CB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A0B8-3E74-4C04-8DAF-A4894127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7905-C070-4D3A-A118-D70761D3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7AB3-DCD4-4A09-94DC-969790A0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C739-70A5-406B-A2C8-BD898A7B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FF4D-2F05-4702-90D3-9912A01F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741CD-62A7-4908-92B3-1C84A14CFD4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 Packet Format(without compressio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468360" y="1916280"/>
            <a:ext cx="20160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by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ket Siz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>
            <a:off x="2484360" y="1916280"/>
            <a:ext cx="115092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by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ig Endia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1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dding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2"/>
          <p:cNvSpPr/>
          <p:nvPr/>
        </p:nvSpPr>
        <p:spPr>
          <a:xfrm>
            <a:off x="3635280" y="1916280"/>
            <a:ext cx="2890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by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dding d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6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4319640" y="3141720"/>
            <a:ext cx="12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cryption targe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3635280" y="2421000"/>
            <a:ext cx="360072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Freeform 20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21"/>
          <p:cNvSpPr/>
          <p:nvPr/>
        </p:nvSpPr>
        <p:spPr>
          <a:xfrm>
            <a:off x="6084720" y="1413000"/>
            <a:ext cx="11512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Freeform 22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23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484360" y="1773360"/>
            <a:ext cx="1800" cy="237636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25"/>
          <p:cNvSpPr/>
          <p:nvPr/>
        </p:nvSpPr>
        <p:spPr>
          <a:xfrm>
            <a:off x="7236000" y="1773360"/>
            <a:ext cx="1440" cy="115092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8675640" y="1773360"/>
            <a:ext cx="1800" cy="237636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27"/>
          <p:cNvSpPr/>
          <p:nvPr/>
        </p:nvSpPr>
        <p:spPr>
          <a:xfrm>
            <a:off x="7236000" y="1916280"/>
            <a:ext cx="143964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28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by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29"/>
          <p:cNvSpPr/>
          <p:nvPr/>
        </p:nvSpPr>
        <p:spPr>
          <a:xfrm>
            <a:off x="3635280" y="1773360"/>
            <a:ext cx="1800" cy="64764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30"/>
          <p:cNvSpPr/>
          <p:nvPr/>
        </p:nvSpPr>
        <p:spPr>
          <a:xfrm>
            <a:off x="4535640" y="4365720"/>
            <a:ext cx="14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mission targe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31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Once the packet construction and encryption has been completed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SSH2 packet is transmitted in 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finish_send_packet_special (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CP communication with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nd_packet_blocking (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32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ptional Fiel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 Packet Format(with compress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>
            <a:off x="468360" y="2997360"/>
            <a:ext cx="20160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by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ket Siz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8"/>
          <p:cNvSpPr/>
          <p:nvPr/>
        </p:nvSpPr>
        <p:spPr>
          <a:xfrm>
            <a:off x="2484360" y="2997360"/>
            <a:ext cx="115092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by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10"/>
          <p:cNvSpPr/>
          <p:nvPr/>
        </p:nvSpPr>
        <p:spPr>
          <a:xfrm>
            <a:off x="3635280" y="2997360"/>
            <a:ext cx="2890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by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dding d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14"/>
          <p:cNvSpPr/>
          <p:nvPr/>
        </p:nvSpPr>
        <p:spPr>
          <a:xfrm>
            <a:off x="6732720" y="2997360"/>
            <a:ext cx="143964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by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6"/>
          <p:cNvSpPr/>
          <p:nvPr/>
        </p:nvSpPr>
        <p:spPr>
          <a:xfrm>
            <a:off x="1476360" y="5373720"/>
            <a:ext cx="6192720" cy="1106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Payload compression happens before SSH2 packet is constructed and encrypt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Packet is transmitted in 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finish_send_packet_special ()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ase of compression payload size may increa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7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Group 19"/>
          <p:cNvGrpSpPr/>
          <p:nvPr/>
        </p:nvGrpSpPr>
        <p:grpSpPr>
          <a:xfrm>
            <a:off x="2055960" y="1268280"/>
            <a:ext cx="1433520" cy="284400"/>
            <a:chOff x="2055960" y="1268280"/>
            <a:chExt cx="1433520" cy="284400"/>
          </a:xfrm>
        </p:grpSpPr>
        <p:sp>
          <p:nvSpPr>
            <p:cNvPr id="96" name="Rectangle 20"/>
            <p:cNvSpPr/>
            <p:nvPr/>
          </p:nvSpPr>
          <p:spPr>
            <a:xfrm>
              <a:off x="2055960" y="1268280"/>
              <a:ext cx="284040" cy="284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Rectangle 21"/>
            <p:cNvSpPr/>
            <p:nvPr/>
          </p:nvSpPr>
          <p:spPr>
            <a:xfrm>
              <a:off x="2343240" y="1268280"/>
              <a:ext cx="284040" cy="284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22"/>
            <p:cNvSpPr/>
            <p:nvPr/>
          </p:nvSpPr>
          <p:spPr>
            <a:xfrm>
              <a:off x="2630520" y="1268280"/>
              <a:ext cx="284040" cy="284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917800" y="1268280"/>
              <a:ext cx="284040" cy="284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Rectangle 24"/>
            <p:cNvSpPr/>
            <p:nvPr/>
          </p:nvSpPr>
          <p:spPr>
            <a:xfrm>
              <a:off x="3205080" y="1268280"/>
              <a:ext cx="284400" cy="284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AutoShape 25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6"/>
          <p:cNvSpPr/>
          <p:nvPr/>
        </p:nvSpPr>
        <p:spPr>
          <a:xfrm>
            <a:off x="4500720" y="9079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 compre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7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ressed Paylo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28"/>
          <p:cNvSpPr/>
          <p:nvPr/>
        </p:nvSpPr>
        <p:spPr>
          <a:xfrm>
            <a:off x="3492360" y="836640"/>
            <a:ext cx="1800" cy="43164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29"/>
          <p:cNvSpPr/>
          <p:nvPr/>
        </p:nvSpPr>
        <p:spPr>
          <a:xfrm flipH="1">
            <a:off x="5144760" y="836640"/>
            <a:ext cx="509400" cy="43164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30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31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2"/>
          <p:cNvSpPr/>
          <p:nvPr/>
        </p:nvSpPr>
        <p:spPr>
          <a:xfrm>
            <a:off x="3924360" y="184464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ket constr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3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ressed Paylo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34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35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36"/>
          <p:cNvSpPr/>
          <p:nvPr/>
        </p:nvSpPr>
        <p:spPr>
          <a:xfrm>
            <a:off x="2484360" y="2852640"/>
            <a:ext cx="1800" cy="165600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37"/>
          <p:cNvSpPr/>
          <p:nvPr/>
        </p:nvSpPr>
        <p:spPr>
          <a:xfrm>
            <a:off x="6732720" y="2852640"/>
            <a:ext cx="1440" cy="79236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38"/>
          <p:cNvSpPr/>
          <p:nvPr/>
        </p:nvSpPr>
        <p:spPr>
          <a:xfrm>
            <a:off x="8172360" y="2852640"/>
            <a:ext cx="1800" cy="165600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39"/>
          <p:cNvSpPr/>
          <p:nvPr/>
        </p:nvSpPr>
        <p:spPr>
          <a:xfrm>
            <a:off x="3959280" y="3789360"/>
            <a:ext cx="151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cryption targe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0"/>
          <p:cNvSpPr/>
          <p:nvPr/>
        </p:nvSpPr>
        <p:spPr>
          <a:xfrm>
            <a:off x="4356000" y="4653000"/>
            <a:ext cx="14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mission targe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cp:keywords/>
  <dc:language>en-US</dc:language>
  <cp:lastModifiedBy>maya negeta</cp:lastModifiedBy>
  <dcterms:modified xsi:type="dcterms:W3CDTF">2018-01-27T04:08:33Z</dcterms:modified>
  <cp:revision>307</cp:revision>
  <dc:subject/>
  <dc:title>DDEのしくみ</dc:title>
</cp:coreProperties>
</file>