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001-2875-4E06-BE65-34DDB22B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1F2-0C06-4178-B99F-4FD5D12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4E2-4395-4B4B-BEB2-4A0E9047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531-77B0-4DC3-B758-6DD1C0AE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115-FDC6-46B8-9BA0-C004967A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3A8-7909-4F3C-BC57-3C2768A4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49C-1F39-4A08-A96D-4FAD345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A86-DD01-4750-9FE7-7C656DCC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968-34B7-4B3C-A750-68E69AC6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A7A-9F75-4D7B-8BF7-8BC7DFB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7D7-DA00-4B0F-AC97-61DACA3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21D-BBAD-4815-BB7C-01E6329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26F2-C089-49FE-B0D7-5D01998239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Buff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52640"/>
            <a:ext cx="1512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0920" y="907920"/>
            <a:ext cx="1363680" cy="2013120"/>
            <a:chOff x="250920" y="907920"/>
            <a:chExt cx="1363680" cy="2013120"/>
          </a:xfrm>
        </p:grpSpPr>
        <p:sp>
          <p:nvSpPr>
            <p:cNvPr id="51" name=""/>
            <p:cNvSpPr/>
            <p:nvPr/>
          </p:nvSpPr>
          <p:spPr>
            <a:xfrm>
              <a:off x="250920" y="9079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119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0920" y="148428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0920" y="1773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206064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2349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263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1619280" y="1047240"/>
            <a:ext cx="15127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not 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7320" y="1047600"/>
            <a:ext cx="2170080" cy="130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052640"/>
            <a:ext cx="1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183996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1047240"/>
            <a:ext cx="1512720" cy="1451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221000"/>
            <a:ext cx="151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5280" y="4076640"/>
            <a:ext cx="1363680" cy="2013120"/>
            <a:chOff x="395280" y="4076640"/>
            <a:chExt cx="1363680" cy="2013120"/>
          </a:xfrm>
        </p:grpSpPr>
        <p:sp>
          <p:nvSpPr>
            <p:cNvPr id="68" name=""/>
            <p:cNvSpPr/>
            <p:nvPr/>
          </p:nvSpPr>
          <p:spPr>
            <a:xfrm>
              <a:off x="395280" y="407664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436572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4653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49417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229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551808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5805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>
            <a:off x="1763640" y="4215960"/>
            <a:ext cx="151308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1680" y="4216320"/>
            <a:ext cx="2170440" cy="1881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4221000"/>
            <a:ext cx="180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500868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3640" y="5511960"/>
            <a:ext cx="1513080" cy="155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516640"/>
            <a:ext cx="2158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1052640"/>
            <a:ext cx="144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1080" y="4221000"/>
            <a:ext cx="144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14842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57340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165720"/>
            <a:ext cx="1800" cy="28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453360"/>
            <a:ext cx="1224000" cy="14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08720" y="3928680"/>
            <a:ext cx="1800" cy="252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06960" y="3933720"/>
            <a:ext cx="130680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933720"/>
            <a:ext cx="1440" cy="1582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1871640"/>
            <a:ext cx="270036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DDE buffer is a ring buffer, if the buffer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ll, the oldest data is overwrit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og buffer and DDE buffer ar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contains the size of valid data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tes beginning from DSt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f logs are collected and macro runs 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time, LStart and DStart, LCount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will contain the equal 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484360"/>
            <a:ext cx="79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45:03Z</dcterms:modified>
  <cp:revision>138</cp:revision>
  <dc:subject/>
  <dc:title>DDEのしくみ</dc:title>
</cp:coreProperties>
</file>