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9BD-E5CF-42D1-9197-B0C4E6AB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B84-DD7B-4240-9A50-65FD6EDC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242-6087-46E1-BF3E-7B99192B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32E-910F-45DB-836C-D9C3137E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BA8-A692-4F65-8060-7FE0C141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7BB-A4C0-409C-B773-F3CCD0A5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3DF-8D70-4093-BF3C-B7781E6A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ED4-28F9-4D91-B2CE-EEB05760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6CF-D4D3-45C0-A61B-25B373C9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799-6AA5-4D1C-A190-E47E34F2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F78-4D55-4E4F-9E12-B6458910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435-5F7F-45CF-8058-87AB3A1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488E2-94BA-4FE1-BA04-B8118FCE43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 SSH2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341360"/>
            <a:ext cx="8353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49360"/>
            <a:ext cx="2303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549360"/>
            <a:ext cx="180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981000"/>
            <a:ext cx="935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1773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125360"/>
            <a:ext cx="180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buflen = READAMOUNT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6237360"/>
            <a:ext cx="4537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5445000"/>
            <a:ext cx="3240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by the recv(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5300640"/>
            <a:ext cx="194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5300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3933720"/>
            <a:ext cx="201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393372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429264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429264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4149720"/>
            <a:ext cx="863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724280"/>
            <a:ext cx="20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78136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278136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637000"/>
            <a:ext cx="647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2637000"/>
            <a:ext cx="2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27320" y="2060640"/>
            <a:ext cx="1800" cy="57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sing one SSH2 pa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turning plain data passed in SSH2_MSG_CHANNEL_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4:39:10Z</dcterms:modified>
  <cp:revision>351</cp:revision>
  <dc:subject/>
  <dc:title>DDEのしくみ</dc:title>
</cp:coreProperties>
</file>