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D6B-1A4D-4029-B632-308FEEE1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3FD-DD54-4A4B-99B1-1E9A70AC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55A-C1DE-44D6-8494-E8D3643E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7CC-1692-4338-9619-792E7741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14A-58AE-4F66-BE9E-5C95A50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BC0-68C3-408A-9C06-1CC5F6EF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8D6-B073-4577-BECB-4179B346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1A0-7622-4FF2-8752-F3BBC1A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ACC-7E54-43DC-B9BA-FCF06C90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86E-9BE2-42F8-84CB-3CBDB37E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225-60F2-4B43-A717-D33E691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9E9-C61A-493A-8A5C-9B274486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F7BE8-6A02-42FF-BD32-3FBB99DC61A4}" type="slidenum">
              <a:rPr b="0" lang="ja-JP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352600" y="1089000"/>
            <a:ext cx="1444680" cy="45396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376880" y="108900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800520" y="1317600"/>
            <a:ext cx="5763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24000" y="936720"/>
            <a:ext cx="5100840" cy="13683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201760" y="1641600"/>
            <a:ext cx="17496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Tera Term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724360" y="105264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352600" y="2841480"/>
            <a:ext cx="1444680" cy="45432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376880" y="283536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797280" y="308772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124000" y="2556000"/>
            <a:ext cx="5100840" cy="15015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201760" y="3394080"/>
            <a:ext cx="17496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Macro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724360" y="280512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グループ化 1"/>
          <p:cNvGrpSpPr/>
          <p:nvPr/>
        </p:nvGrpSpPr>
        <p:grpSpPr>
          <a:xfrm>
            <a:off x="2095560" y="4441680"/>
            <a:ext cx="5102280" cy="1901880"/>
            <a:chOff x="2095560" y="4441680"/>
            <a:chExt cx="5102280" cy="1901880"/>
          </a:xfrm>
        </p:grpSpPr>
        <p:sp>
          <p:nvSpPr>
            <p:cNvPr id="61" name="Rectangle 17"/>
            <p:cNvSpPr/>
            <p:nvPr/>
          </p:nvSpPr>
          <p:spPr>
            <a:xfrm>
              <a:off x="2324160" y="4593960"/>
              <a:ext cx="1444680" cy="453960"/>
            </a:xfrm>
            <a:prstGeom prst="rect">
              <a:avLst/>
            </a:prstGeom>
            <a:solidFill>
              <a:srgbClr val="c6d9f1"/>
            </a:solidFill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txssh.d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4381560" y="459396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SS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4381560" y="512748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li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4381560" y="566100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T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770280" y="482256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 flipH="1">
              <a:off x="4071600" y="535464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 flipH="1">
              <a:off x="4071600" y="58896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4076640" y="4822560"/>
              <a:ext cx="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2095560" y="4441680"/>
              <a:ext cx="5102280" cy="190188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2324160" y="5127480"/>
              <a:ext cx="1444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SSH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5677200" y="458928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ryptograph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5677200" y="512280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press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5677200" y="5661000"/>
              <a:ext cx="1444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ageant Interact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1"/>
          <p:cNvSpPr/>
          <p:nvPr/>
        </p:nvSpPr>
        <p:spPr>
          <a:xfrm>
            <a:off x="4376880" y="343548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 flipH="1">
            <a:off x="3951360" y="3670200"/>
            <a:ext cx="4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3951360" y="308772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724360" y="340056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eudorandom number 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cp:keywords/>
  <dc:language>en-US</dc:language>
  <cp:lastModifiedBy>maya negeta</cp:lastModifiedBy>
  <dcterms:modified xsi:type="dcterms:W3CDTF">2017-06-01T12:00:48Z</dcterms:modified>
  <cp:revision>89</cp:revision>
  <dc:subject/>
  <dc:title>TeraTermモジュール構成</dc:title>
</cp:coreProperties>
</file>