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E58-9B11-4916-9E4B-F6463AC4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E0A-A129-423F-AC11-6C0EF0D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5D0-2CF3-467E-84D1-67F163E4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B51-449F-4AA5-ADAE-5CA69A2E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D41-3EAF-4B54-A02E-B256A96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B12-A1FE-4CC4-BE3D-BA16CFF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38F-193B-4FF7-BC2F-A20251EF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338-C183-4687-A97D-2EB3D63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D85-8826-45BB-A4DB-402C9FC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E61-FF5A-4D77-8AF3-9B00C84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857-0C36-407C-978F-B5E70BD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E92-27E1-4F82-BED8-9D52ABB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4F5BB-EBCA-4E11-8AB9-840A7FBE35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 Fo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ndle_SSH2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buffered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340000" y="429552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rite_local_connection_buff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9:23Z</dcterms:modified>
  <cp:revision>359</cp:revision>
  <dc:subject/>
  <dc:title>DDEのしくみ</dc:title>
</cp:coreProperties>
</file>